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 id="279" r:id="rId71"/>
    <p:sldId id="280" r:id="rId72"/>
    <p:sldId id="281" r:id="rId73"/>
    <p:sldId id="282" r:id="rId74"/>
    <p:sldId id="283" r:id="rId75"/>
    <p:sldId id="284" r:id="rId76"/>
    <p:sldId id="285" r:id="rId77"/>
    <p:sldId id="286" r:id="rId78"/>
    <p:sldId id="287" r:id="rId79"/>
    <p:sldId id="288" r:id="rId80"/>
    <p:sldId id="289" r:id="rId81"/>
    <p:sldId id="290" r:id="rId82"/>
    <p:sldId id="291" r:id="rId83"/>
    <p:sldId id="292" r:id="rId84"/>
    <p:sldId id="293" r:id="rId85"/>
    <p:sldId id="294" r:id="rId86"/>
    <p:sldId id="295" r:id="rId87"/>
    <p:sldId id="296" r:id="rId88"/>
    <p:sldId id="297" r:id="rId8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slide" Target="slides/slide24.xml"/><Relationship Id="rId72" Type="http://schemas.openxmlformats.org/officeDocument/2006/relationships/slide" Target="slides/slide25.xml"/><Relationship Id="rId73" Type="http://schemas.openxmlformats.org/officeDocument/2006/relationships/slide" Target="slides/slide26.xml"/><Relationship Id="rId74" Type="http://schemas.openxmlformats.org/officeDocument/2006/relationships/slide" Target="slides/slide27.xml"/><Relationship Id="rId75" Type="http://schemas.openxmlformats.org/officeDocument/2006/relationships/slide" Target="slides/slide28.xml"/><Relationship Id="rId76" Type="http://schemas.openxmlformats.org/officeDocument/2006/relationships/slide" Target="slides/slide29.xml"/><Relationship Id="rId77" Type="http://schemas.openxmlformats.org/officeDocument/2006/relationships/slide" Target="slides/slide30.xml"/><Relationship Id="rId78" Type="http://schemas.openxmlformats.org/officeDocument/2006/relationships/slide" Target="slides/slide31.xml"/><Relationship Id="rId79" Type="http://schemas.openxmlformats.org/officeDocument/2006/relationships/slide" Target="slides/slide32.xml"/><Relationship Id="rId80" Type="http://schemas.openxmlformats.org/officeDocument/2006/relationships/slide" Target="slides/slide33.xml"/><Relationship Id="rId81" Type="http://schemas.openxmlformats.org/officeDocument/2006/relationships/slide" Target="slides/slide34.xml"/><Relationship Id="rId82" Type="http://schemas.openxmlformats.org/officeDocument/2006/relationships/slide" Target="slides/slide35.xml"/><Relationship Id="rId83" Type="http://schemas.openxmlformats.org/officeDocument/2006/relationships/slide" Target="slides/slide36.xml"/><Relationship Id="rId84" Type="http://schemas.openxmlformats.org/officeDocument/2006/relationships/slide" Target="slides/slide37.xml"/><Relationship Id="rId85" Type="http://schemas.openxmlformats.org/officeDocument/2006/relationships/slide" Target="slides/slide38.xml"/><Relationship Id="rId86" Type="http://schemas.openxmlformats.org/officeDocument/2006/relationships/slide" Target="slides/slide39.xml"/><Relationship Id="rId87" Type="http://schemas.openxmlformats.org/officeDocument/2006/relationships/slide" Target="slides/slide40.xml"/><Relationship Id="rId88" Type="http://schemas.openxmlformats.org/officeDocument/2006/relationships/slide" Target="slides/slide41.xml"/><Relationship Id="rId89" Type="http://schemas.openxmlformats.org/officeDocument/2006/relationships/slide" Target="slides/slide42.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5" name="PlaceHolder 2"/>
          <p:cNvSpPr>
            <a:spLocks noGrp="1"/>
          </p:cNvSpPr>
          <p:nvPr>
            <p:ph type="dt" idx="13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2187"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8" name="PlaceHolder 5"/>
          <p:cNvSpPr>
            <a:spLocks noGrp="1"/>
          </p:cNvSpPr>
          <p:nvPr>
            <p:ph type="ftr" idx="13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9" name="PlaceHolder 6"/>
          <p:cNvSpPr>
            <a:spLocks noGrp="1"/>
          </p:cNvSpPr>
          <p:nvPr>
            <p:ph type="sldNum" idx="132"/>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0F20-74C0-4A95-95A7-554E9CFCDDE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17640" y="744480"/>
            <a:ext cx="4962600" cy="3722760"/>
          </a:xfrm>
          <a:prstGeom prst="rect">
            <a:avLst/>
          </a:prstGeom>
          <a:ln w="0">
            <a:noFill/>
          </a:ln>
        </p:spPr>
      </p:sp>
      <p:sp>
        <p:nvSpPr>
          <p:cNvPr id="230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3FA0-ED70-458D-8CFF-5D7A45F888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165320" y="1241280"/>
            <a:ext cx="4467240" cy="3349800"/>
          </a:xfrm>
          <a:prstGeom prst="rect">
            <a:avLst/>
          </a:prstGeom>
          <a:ln w="0">
            <a:noFill/>
          </a:ln>
        </p:spPr>
      </p:sp>
      <p:sp>
        <p:nvSpPr>
          <p:cNvPr id="2303"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ff should be involved in the evaluation of existing practice and the development of a new, rigorous assessment system and procedures to enable the school to promote high quality teaching and learn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inciples should be supported by school governors and accessible to parents, other stakeholders and the wider school commun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review process should involve every school identifying its own learning and development needs for assessment. Schools should allocate specific time and resources for professional development in this area and should monitor how the identified needs are being me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p:txBody>
      </p:sp>
      <p:sp>
        <p:nvSpPr>
          <p:cNvPr id="23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4076-C7C8-4C63-BD34-9C617A9D95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1165320" y="1241280"/>
            <a:ext cx="4467240" cy="3349800"/>
          </a:xfrm>
          <a:prstGeom prst="rect">
            <a:avLst/>
          </a:prstGeom>
          <a:ln w="0">
            <a:noFill/>
          </a:ln>
        </p:spPr>
      </p:sp>
      <p:sp>
        <p:nvSpPr>
          <p:cNvPr id="2306"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o aid communication, comparison and benchmarking.  To this end, we call upon the NAHT to develop and promote a set of model assessment criteria based on the new National Curriculum.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more, excellent practice in assessment should be identified and publicised, with the Department for Education responsible for ensuring that this is undertak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should be prepared to submit their assessment to external moderators, who should have the right to provide a written report to the head teacher and governors setting out a judgement on the quality and reliability of assessment in the school, on which the school should act. The Commission is of the view that at least some external moderation should be undertaken by moderators with no vested interest in the outcomes of the school’s assessment. This will avoid any conflicts of interest and provide objective scrutiny and broader alignment of standards across school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03E5-B1BA-4F6E-9D11-6A3B10E6A2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165320" y="1241280"/>
            <a:ext cx="4467240" cy="3349800"/>
          </a:xfrm>
          <a:prstGeom prst="rect">
            <a:avLst/>
          </a:prstGeom>
          <a:ln w="0">
            <a:noFill/>
          </a:ln>
        </p:spPr>
      </p:sp>
      <p:sp>
        <p:nvSpPr>
          <p:cNvPr id="2309"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and ensure both guidance and training for inspectors is consistent with thi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authorities and other employers should provide similar clarity about requirements in their area of accountability.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0D22-309C-4845-851F-CF565C7F80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1165320" y="1241280"/>
            <a:ext cx="4467240" cy="3349800"/>
          </a:xfrm>
          <a:prstGeom prst="rect">
            <a:avLst/>
          </a:prstGeom>
          <a:ln w="0">
            <a:noFill/>
          </a:ln>
        </p:spPr>
      </p:sp>
      <p:sp>
        <p:nvSpPr>
          <p:cNvPr id="2312"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he education system is entering a period of significant change in curriculum and assessment, where schools will be creating, testing and revising their policies and procedures. The government should make clear how they will take this into consideration when reviewing the way they hold schools accountable as new national assessment arrangements are introduced during 2014/15.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Further work should be undertaken to improve training for assessment within initial teacher training (ITT), the newly qualified teacher (NQT) induction year and on-going professional development. This will help to build assessment capacity and support a process of continual strengthening of practice within the school system. The Universities’ Council for the Education of Teachers (UCET) should build provision in initial teacher training for delivery of the essential assessment knowledge. All those responsible for children’s learning should undertake rigorous training in formative, diagnostic and summative assessment, which covers how assessment can be used to support teaching and learning for all pupils, including those with special educational needs. The government should provide support and resources for accredited training for school assessment leads and schools should make assessment training a prior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schools need to be clear that any use of levels in relation to the new curriculum can only be a temporary arrangement to enable them to develop, implement and embed a robust new framework for assessment. Schools need to be conscious that the new curriculum is not in alignment with the old National Curriculum level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95EA-6A6E-4DEE-8C3C-A4ADB55DC9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165320" y="1241280"/>
            <a:ext cx="4467240" cy="3349800"/>
          </a:xfrm>
          <a:prstGeom prst="rect">
            <a:avLst/>
          </a:prstGeom>
          <a:ln w="0">
            <a:noFill/>
          </a:ln>
        </p:spPr>
      </p:sp>
      <p:sp>
        <p:nvSpPr>
          <p:cNvPr id="2315"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velopment of the full framework should be outlined in the school development plan with appropriate milestones that allow the school sufficient time to develop an effective model.</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ould help to repair the disjointed nature of assessment through all ages, 2-19.</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27D5-06C8-4716-B2A6-9964A0A67B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17640" y="744480"/>
            <a:ext cx="4962600" cy="3722760"/>
          </a:xfrm>
          <a:prstGeom prst="rect">
            <a:avLst/>
          </a:prstGeom>
          <a:ln w="0">
            <a:noFill/>
          </a:ln>
        </p:spPr>
      </p:sp>
      <p:sp>
        <p:nvSpPr>
          <p:cNvPr id="231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 then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ous groups have been working to analyse current practice and assimilate the best of what’s happening.  This report:  ‘Developing policy, principles and practice in primary school science assessment’ involved many nationally known primary science experts and was chaired by Wynne Harlen.  A summary of proposals, reflecting best practice, was developed and shared with DfE.</a:t>
            </a:r>
            <a:endParaRPr b="0" lang="en-US" sz="1200" spc="-1" strike="noStrike">
              <a:solidFill>
                <a:srgbClr val="000000"/>
              </a:solidFill>
              <a:latin typeface="Calibri"/>
            </a:endParaRPr>
          </a:p>
        </p:txBody>
      </p:sp>
      <p:sp>
        <p:nvSpPr>
          <p:cNvPr id="23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E277-14C1-4C47-8E1D-9A9943C5518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917640" y="744480"/>
            <a:ext cx="4962600" cy="3722760"/>
          </a:xfrm>
          <a:prstGeom prst="rect">
            <a:avLst/>
          </a:prstGeom>
          <a:ln w="0">
            <a:noFill/>
          </a:ln>
        </p:spPr>
      </p:sp>
      <p:sp>
        <p:nvSpPr>
          <p:cNvPr id="2321" name="PlaceHolder 2"/>
          <p:cNvSpPr>
            <a:spLocks noGrp="1"/>
          </p:cNvSpPr>
          <p:nvPr>
            <p:ph type="body"/>
          </p:nvPr>
        </p:nvSpPr>
        <p:spPr>
          <a:xfrm>
            <a:off x="679320" y="4716000"/>
            <a:ext cx="5438880" cy="4465800"/>
          </a:xfrm>
          <a:prstGeom prst="rect">
            <a:avLst/>
          </a:prstGeom>
          <a:noFill/>
          <a:ln w="0">
            <a:noFill/>
          </a:ln>
        </p:spPr>
        <p:txBody>
          <a:bodyPr anchor="t">
            <a:noAutofit/>
          </a:bodyPr>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ience has been reinforced as a core subject in new NC.  Myth busting - It always has been a core subject but profile slipped, largely because of the removal of KS2 SAT (a good thing) but allowed HTs and some schools to ‘demote’ science, particularly in Y6.  This factor is mentioned in ‘Maintaining Curiosity’ By Brian Cartwright HMCI Science lead – tri-ennial report published in November 2013.  This refers to the worrying decline (in some schools) of science, because of the removal of the SATs – very real.</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implemented from September 2014 – Y2 and Y6 will be assessed against current curriculum and PoS in Summer 2015.  Outcomes expressed in level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assessment against new PoS and without levels in Summer 2016.  Children will be assessed for ‘mastery’ of the programme of study and whether they exceed or fall below age related expectation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 – as of January 2014, still awaiting outcomes and response.</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assessment statutory at end of KS, until at least 2016.</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ennial testing continues (see next slide)</a:t>
            </a:r>
            <a:endParaRPr b="0" lang="en-US" sz="1200" spc="-1" strike="noStrike">
              <a:solidFill>
                <a:srgbClr val="000000"/>
              </a:solidFill>
              <a:latin typeface="Calibri"/>
            </a:endParaRPr>
          </a:p>
        </p:txBody>
      </p:sp>
      <p:sp>
        <p:nvSpPr>
          <p:cNvPr id="23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7566AE7-74C2-4AA0-B454-93FA9986C8CC}"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17640" y="744480"/>
            <a:ext cx="4962600" cy="3722760"/>
          </a:xfrm>
          <a:prstGeom prst="rect">
            <a:avLst/>
          </a:prstGeom>
          <a:ln w="0">
            <a:noFill/>
          </a:ln>
        </p:spPr>
      </p:sp>
      <p:sp>
        <p:nvSpPr>
          <p:cNvPr id="232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ening this year – 2014, against current PoS and same format questions, measured in levels (3,4 and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will be informed in advance that a visit will be made.  Probably just before February half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HING TO WORRY ABOUT!  Very important that teachers know this.  The data will not be held against the school.  Only 5 children, regardless of size of cohort.  External administrator will make visit and administer tests with children at some point within June.  Tests will be drawn from a bank, not a single test.  Each child completes three short tests – about 20minutes – biology, chemistry, physics with Sc1 fully integ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2016 – next sample test – the new curriculum will be tested and the questions will not be against levels.  Children’s mastery of the curriculum will be tested.  Questions will be pitched to deliver different degrees of challenge, using a Bloom’s taxonomy type model.  Performance descriptors will be issued by STA (Standards and Testing Agency) shortly that describe ‘secondary readiness’ at Y6.  These are likely to be brief and limited in scope.  So don’t expect anything that will be particularly useful, necessarily!</a:t>
            </a:r>
            <a:endParaRPr b="0" lang="en-US" sz="1200" spc="-1" strike="noStrike">
              <a:solidFill>
                <a:srgbClr val="000000"/>
              </a:solidFill>
              <a:latin typeface="Calibri"/>
            </a:endParaRPr>
          </a:p>
        </p:txBody>
      </p:sp>
      <p:sp>
        <p:nvSpPr>
          <p:cNvPr id="23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1EB7-6DA1-4CA8-8566-D8C62D076646}"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sldImg"/>
          </p:nvPr>
        </p:nvSpPr>
        <p:spPr>
          <a:xfrm>
            <a:off x="917640" y="744480"/>
            <a:ext cx="4962600" cy="3722760"/>
          </a:xfrm>
          <a:prstGeom prst="rect">
            <a:avLst/>
          </a:prstGeom>
          <a:ln w="0">
            <a:noFill/>
          </a:ln>
        </p:spPr>
      </p:sp>
      <p:sp>
        <p:nvSpPr>
          <p:cNvPr id="228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6F56-C9FC-430C-9447-8371636586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917640" y="744480"/>
            <a:ext cx="4962600" cy="3722760"/>
          </a:xfrm>
          <a:prstGeom prst="rect">
            <a:avLst/>
          </a:prstGeom>
          <a:ln w="0">
            <a:noFill/>
          </a:ln>
        </p:spPr>
      </p:sp>
      <p:sp>
        <p:nvSpPr>
          <p:cNvPr id="232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little information in the NC PoS about assessment.  Much discussion about where next.  This statement is important to reference.  We want, and need, to see progress and have in mind progression in the big ideas of science.  The idea of ‘security’ of understanding is key and links to the nature of the new ‘mastery curriculum’.  We will assess children as to whether they have achieved age related expectation and mastered the curriculum PoS at any given point.</a:t>
            </a:r>
            <a:endParaRPr b="0" lang="en-US" sz="1200" spc="-1" strike="noStrike">
              <a:solidFill>
                <a:srgbClr val="000000"/>
              </a:solidFill>
              <a:latin typeface="Calibri"/>
            </a:endParaRPr>
          </a:p>
        </p:txBody>
      </p:sp>
      <p:sp>
        <p:nvSpPr>
          <p:cNvPr id="23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64D2-9A0C-49AB-B52B-F9CFB47425C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17640" y="744480"/>
            <a:ext cx="4962600" cy="3722760"/>
          </a:xfrm>
          <a:prstGeom prst="rect">
            <a:avLst/>
          </a:prstGeom>
          <a:ln w="0">
            <a:noFill/>
          </a:ln>
        </p:spPr>
      </p:sp>
      <p:sp>
        <p:nvSpPr>
          <p:cNvPr id="228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8E12-0047-45BA-92A4-A7C6BBED85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PlaceHolder 1"/>
          <p:cNvSpPr>
            <a:spLocks noGrp="1"/>
          </p:cNvSpPr>
          <p:nvPr>
            <p:ph type="sldImg"/>
          </p:nvPr>
        </p:nvSpPr>
        <p:spPr>
          <a:xfrm>
            <a:off x="917640" y="744480"/>
            <a:ext cx="4962600" cy="3722760"/>
          </a:xfrm>
          <a:prstGeom prst="rect">
            <a:avLst/>
          </a:prstGeom>
          <a:ln w="0">
            <a:noFill/>
          </a:ln>
        </p:spPr>
      </p:sp>
      <p:sp>
        <p:nvSpPr>
          <p:cNvPr id="229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8138-5A45-4201-ACC4-C448D57AC2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17640" y="744480"/>
            <a:ext cx="4962600" cy="3722760"/>
          </a:xfrm>
          <a:prstGeom prst="rect">
            <a:avLst/>
          </a:prstGeom>
          <a:ln w="0">
            <a:noFill/>
          </a:ln>
        </p:spPr>
      </p:sp>
      <p:sp>
        <p:nvSpPr>
          <p:cNvPr id="229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40F4-CF0B-4E72-82D3-B2DA0BA054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sldImg"/>
          </p:nvPr>
        </p:nvSpPr>
        <p:spPr>
          <a:xfrm>
            <a:off x="917640" y="744480"/>
            <a:ext cx="4962600" cy="3722760"/>
          </a:xfrm>
          <a:prstGeom prst="rect">
            <a:avLst/>
          </a:prstGeom>
          <a:ln w="0">
            <a:noFill/>
          </a:ln>
        </p:spPr>
      </p:sp>
      <p:sp>
        <p:nvSpPr>
          <p:cNvPr id="229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3B34-FD6B-4EC3-B415-871242DA4E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82312-93E5-4B09-9EF1-11AF0380D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27E5E-CC19-442F-988F-B87880796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F30074B-3A54-44D5-AA05-EB5EEE80D2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6A666F0-08BA-4109-BE5D-6D06FF942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6BE51DC-1491-442B-84E6-43726B32F8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C9DF19E-F115-47A3-92FC-692DBB66F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5075EB7-2B6F-417C-971A-063C96B30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58EE1B3-212D-4DE2-ADF1-64383987C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FC578E4-8BA6-4CFD-8C80-5A82A0956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1A08AC0-1F29-4D68-8E12-C4FFEAE004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2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6F9B353-5E8C-4371-9E36-965F4CD372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120D4C-B513-4515-8080-8E35533822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6020A-619F-4B6F-A4C7-C11725C5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3989C6-2EF8-40E7-9D18-1441BC13CE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5CE5A7-D371-4606-BBC9-B8ABAD3698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F161FD-5232-411E-A6A2-8E6372C820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6BD80A-54AE-4D92-B97C-221CF739B8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F276BF-F0A2-4005-A8C5-819568940C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0861A1-A44D-4E3E-B5D5-B0818E92DE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F81DDC-EBEF-4DD0-943A-2AD4A81B0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97BC96-DEF3-4B54-8016-7ABD975D19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3E64ED-13C0-4EFB-8D39-A55493DB9E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ADD1A8-74B5-48F6-9EB9-026890F721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B7FF-29BB-4E44-BAC4-29F1D3879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7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CCDAE2-4D2C-41A2-A395-19B118F29D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656DD7-BED8-4648-9939-0D69E487ED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700E33-F78D-4353-9A24-4277853C70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432954-F355-4BA3-8CFA-BADB7D923B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8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9F200E-BB9C-4DA6-9BD7-ED0FF2A40E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29DBE1-6A5D-41E7-BBC8-2F559AE6D2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78E8DF-330A-4845-8D21-DED27DF0A4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504B8E-1832-4E38-8ABE-5FF8FA0B5F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72DAD1-FC03-4BE6-BA02-9D7661EE75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6E236F-F3BD-4A10-81EA-AE41539702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F3D24-C5C9-4340-9CCC-03D4468A4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BCDDAB-6789-4A64-BB19-00E12C3FBF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A8FB83-FAD0-4908-8C30-E25C32EA53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1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B0C9B8-0EF5-4355-962B-D595F5D954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C4D695-54CB-4D24-9913-435E28C1C5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4532C8-6910-4B06-AC6B-BC04053E56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83C943-CFAB-4DC8-AA8F-89393CED0B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68B39C-ED3A-4C16-85A3-E1A8D9C549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D657B4-77CD-4120-9D10-FCFD1BB613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8077BF-D6F2-4286-8E21-F6D59FF2DF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E4AA0A-4807-4B9E-9F02-3A9B41E00C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C1B1B-FFAF-4642-8712-A8DA60AAD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771FC9-3F77-443C-A66E-6D9603E29F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7B8928-D0F6-4D8C-B48A-1271C55C7D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3A0AB2-F9BA-4713-A81E-0B951BFB0D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619C59-D68E-4626-91AA-558AD7372C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B7A1F7-6DE3-4325-9883-209E9B8374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591B32-6E95-4009-BFB0-5867E8FA19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6A3894-D454-44AC-90D5-93A2AD8B66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D60D4B-7AE7-4F60-987F-DD8340FB60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7536CF-852F-4A87-9DE8-66C6B0235C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58ECB3-6ABE-400F-B048-A6546D40A6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4B7DE-A730-448F-853F-3399F30D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FB4480-AB6A-4364-8B87-659F4B96BB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08DAE4-0D7A-4ABE-B430-59956C3B5B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00C1E5-42FD-4476-A8E0-5F30BA244D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E9745A-D7D4-43BF-8550-7C6677C389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AE2989-56A2-45FC-9633-610DCD5657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D7141D-527C-42FD-9EB5-C1AF334D89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9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1E77B1-E9C8-497C-9E49-93D5189287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CF438E-341A-4360-AA24-A18149F1D7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73624D-0B24-4D74-BCBC-DD75BDC20B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225BC4-C2E3-4380-9DA7-4DFBD1EB30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AD1AF-804A-4C74-BD71-76D3193F6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049E50-726A-42EE-8017-3F2D0605EA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C8218A-D673-4102-A494-50453D88B1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D7D5CA-5AD0-4F42-B4E6-0C2BF99E72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78798C-6D7A-418B-8B9E-CB28E85D3F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826C16-938F-42FA-8862-3A6B567E16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465F87-2879-4C10-9700-0E24FCB41F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87ECB0-6D4C-4E23-B5B4-6AEA85AA81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4C0EB5-A3B9-416D-8DEB-86FB744D4F9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958E67-7C2B-4A2F-A9A1-842B123339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7F2B35-661F-46D5-B1AA-C3A0B957ED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04A62-C824-40B5-A0F5-AD34D1CD3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4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9D5A44-D2B1-4650-A8F2-8CCBB94C50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4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614BCB-6072-4F77-82E9-F49A051A33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6269CD-7AD6-441A-A870-6EEBE43189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EAAD37-191C-440A-8200-94B0992B3F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432F72-D44E-4AB2-B09F-1D9CA9C0FE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F2459C-EF81-4631-AD32-78D8346A97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C3C978-ED09-4751-AD93-8869144BB2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F78D3B-8ACF-419A-826C-36A81EE5F3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FF2912-45DB-4752-8223-EB150E2711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083B685-D70F-4763-83CB-D70201C650B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02868-A34B-4EDE-92C5-E84D40635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8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BD6925-F7AC-4CB9-8A7F-F689B18D178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22A37AC-E73D-487C-983C-D2789694275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8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3321F3-3EF9-4CF0-A24C-27B36301D1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8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57A7DA-F957-4AA0-B968-F1414ED831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7ADBE1-1B33-49EC-9DB1-0426E233B8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C22ED1-F505-4240-8B88-A3FED64124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3A5A5C-02DC-4322-8152-0A74485DC5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9E9880-0C16-4401-9632-EB28476A68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859198-D63A-4095-9F8B-633E2CF460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82B72A-CF8A-4E56-BCDC-5793C7F499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5827-6D0A-4609-83CD-25AF97431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8C6CCE-DAC2-499C-88DA-2F28FB253C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1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71235A5-C3E2-41AA-82E6-5D830DE0340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1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4DB2234-7BD9-480C-BB19-FE548D59381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DF6178-7A6E-4135-A125-3F21EC0F013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2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9B45BF3-47A4-404A-8B3E-DA85864EB6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188ECE-A231-4397-BEC4-34B84DC24A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432863-6114-4496-BB2C-319B0583E6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8632A1-CDF8-4718-815E-FE37C8CA9F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396472-FBBC-4260-9F88-7C5E931A60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8DE4C2-8B3F-46FF-A2D6-DBC4F86A45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E189-F411-4070-9421-9B613D24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0D29-C425-458D-AAA9-9404A4D4E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F5E9D7-8B3C-407A-9A11-502BA1C89C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C517827-339F-4066-ADE3-0DA810B56A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AA1AEA-8E4F-4699-A854-08B6A9574D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5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9309AD-9E6A-4DF1-AB31-2AB28087C12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5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CBAC765-543C-4F31-98E8-DD05D848285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8F71D0C-F15C-4113-AAE0-74995927C3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6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EC6E27-9E8A-4ECF-9BAF-A6A3A220BE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A5381E4-E74B-4127-9241-6124C7293B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7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3A1359-85AA-4FD6-BB3C-76EB548EF4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84C7A7-1C11-4740-80AC-1791AF7BC6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3E16E-A21A-4D4C-9F62-E7CD72A86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EB2E39-31EA-44CD-B06B-376F29435E7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7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3143C4-1589-45EB-8FC4-AFCEB9202B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743D9A-A32E-43C2-8354-E806CF38E9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4513D0-E5A9-420D-9F80-5354696D6D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5014FB-5422-4D43-AF1F-C4C96B3753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CD8620-E63D-47FF-8FB3-A34175E6353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15F977-73AC-4266-974F-0A54153B4B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2838E9-DCFC-49EA-8C4D-995F6571B72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A9E237-E39D-480D-B6EB-5E7D1DFA80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F64112A-E5BE-4DBC-936E-5592DA6303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391CC-E88B-49B4-BEE6-B2F623169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6F4351-DBCF-48C0-8570-490D66F926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AF9573-19D2-4F9A-9884-AC3940B83FD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95EE34-1A22-4774-A0EA-B88D32F6B2C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BDD169-9956-43A0-A1E3-7DE5E23D07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A1DC85-7D13-4B81-8EEB-136DC81B9F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2BC3B2-4971-428A-9C34-A60BB2AEE8A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3C25FAC-7100-48A1-961B-2345BBFFA4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A5E0008-E6EF-40DC-B806-F643DF0DA60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1A6C414-B9CA-482C-8FB4-A2D0459F40F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BABE7CC-EE32-482D-86F5-61B7E2B176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FAEC2-DA8A-42D9-9CEF-AA4E03699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2D69B2-ECA8-431C-9D3C-22A232E221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63AC683-9F8A-43CF-8C9B-159AC0A9C2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654B32-164C-4455-84D3-8A7323E922B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BF4228-0007-4E6B-9828-933C11BD88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7F65561-47F5-4473-A7CE-CEF3586C7BF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40C82F-13C9-4783-8269-531AE74434A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3A867C-1745-4438-8581-7D9FAA84FC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C5F8D9-D223-48EE-8452-FEC4D7BCBD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7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AF731B-538C-4F67-BDA7-356277B470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7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9BC2F4A-80EA-40FB-BBF4-BA53B903E42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B75EE-3ABA-4531-AE3B-81C9F47CA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8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912BDA-1717-498A-8A75-45C9F1E0FCC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8086739-C5F3-43F4-B71F-DCE606FB7F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97866DC-22E6-4D30-981D-BE03EA2383E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236859-AD35-4294-AF1D-C9AECAC9B9F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9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841E473-4A52-4770-AADB-F3F1686C132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47D7880-BBB3-4E55-8861-3319CD7C71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EE0F36F-65E2-40AD-8280-0D5B6F99AF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83B3CB-9C0F-4BB6-AD1D-0698B019267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B2CFCF-908A-44A1-933C-9A185F3736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C113B1-0341-47FA-8E6F-442520F0F2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FC8933-5518-4E75-BEF7-91A50FC13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1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233706-68C2-4B1A-8F4A-E0136D482B5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1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DE02E63-2907-4C02-810A-8EB683B84A7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2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A432D69-61E5-4960-91E9-2FAB1D8FF6B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ADC08B5-BECD-4716-BD6C-17EBBA588C9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51D41C7-0759-4B41-9384-2AEC538E5E9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27CD61-67DA-4BA1-AFB8-E0AE647D0C9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BB1D7F-DB2C-42FF-B9F3-83F54A4B12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F0FA207-4F38-4171-A305-BD22EFEA91B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DFA3A95-561E-4009-A998-93B390C529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5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0C8DCF-C9BA-47AD-B455-65333CEEC9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A212B-6F83-45F0-A1C0-F89BF805D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5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4B4EA1-CBFF-4496-9C45-B76609E1F8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30B7F5-64C5-44E2-A1CC-8AE4B19C83E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4C50DA1-91E0-4D31-8F27-582E525F70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5A8D6DC-9A04-4DF6-ACD8-FBFBA087BE3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7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F77953D-C519-4F13-87C0-C0A963842EC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1566E81-4133-4FC7-8578-A7A818C52D8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9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404CD0F-29BF-4C67-BBE1-296D05BB19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9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FDFE24-EC9D-4A0F-BF16-10FA291A167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0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CCF10EE-93FF-47A5-B499-357C7D15C2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6A8F8F6-84E0-4C88-952F-1623C26C417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D3604-9841-4D32-A13D-4BF1CADD9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F24854-238A-4E94-AACC-2A449869843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5E3B349-8E5A-4644-B064-11B9245D9B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BC4D4C-21E4-4EE3-A04C-3F3256F3A7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8022389-64F9-4CF5-80AB-2FAAF3D6AF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B69ED55-CA98-4AA1-995A-E1C7CC6B277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699B853-98EF-4149-95DB-EEBEAD5FF43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2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3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3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0FAE428-D139-44EC-BAF0-568186C09BA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AEBDD2D-D432-45F0-A249-7BD70E24260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4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B089D1-4821-4951-8450-5A005B9EA81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E157095-F30D-4567-9020-92D5ACCD228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447D9-CCA5-4602-9200-2FB0DA3B1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5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F19EC3-E1B2-4CE2-8CB6-BB5A74FC12A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0FAF06F-DB2F-4052-9F67-EAF49DDC661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B3BC8CE-9E36-4FB5-AF6A-8A8C8C64A8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5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4F3EEDE-BC69-4AA2-A617-6D778235B3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6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664405-DC61-4AAE-981C-9EF30869E02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1CD38A-B12B-4342-889E-22FEEF928C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3E9A0B3-DEBA-4D72-829E-3436D3CA0A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D6F794C-DC07-48CE-ABF1-808AAB4099A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F37C511-7A75-4BF3-B767-627AD83ABCA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A30F1D5-352B-4561-B68B-B98C97FEE98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563AF-34BF-4ECC-A9F5-E014C4884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B18EB31-A27E-4102-B6F9-7273A804A46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7700DB9-A90A-47D4-93F6-942BA748F75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CEDDF74-98D1-4406-80E6-EC23FA5C3E6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9295283-EF90-4581-A3E7-5F06859198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8468C40-635C-4BD1-B470-0043BC8F474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BCDA525-348D-442A-962C-EC902FAE5A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E0082E-FC6A-4622-8808-78EE04F6B64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716641-B479-4D40-AA77-AA0CBAD6EFD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1CF50E-4D1C-4CBA-8954-07FFBB67858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841810F-D513-4049-992E-620C6A03B13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887F-7E57-48F6-85E9-F7636D47C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64F80-66D0-45F6-9251-1E846E6D1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3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A7F47E3-A919-4CAB-9BE7-6C45E2C484D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C68FCF8-7103-4498-A2FA-54DFCAAC140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E52745-52BA-4FC5-AE55-9672231C935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0A18FB3-6D07-4C47-9DBF-8B81A54EC07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7AC9C50-B13D-40CB-BE40-4FC13CA30FF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BCACCBE-89CF-4037-806D-244F082D62D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B142CD3-C45A-4991-9F60-51605337F5D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5159E2-2A03-4083-9857-4409F67AED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5F5B683-22A3-40A6-8537-6A71C361D2B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1697D1-F6EB-4F27-BE6C-8D2279A4F75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957A6-9767-4903-A49D-6BAE78771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7BD250A-3F7A-4900-A151-5BC98CDA147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5ED7C85-813D-4943-A4AB-E9B7ED2624D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6075B0B-14C7-4E6C-B766-0618847E751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6E784AE-BAD1-46E6-9D89-24520E89990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B757DBD-BB00-44D5-B6E2-1F40F8F25D7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DA0C338-A5D6-4E8A-BD24-33C0A5ECAAA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BF1A074-9540-4DF6-874F-113B1BCAC25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ADC78C9-7D3F-4184-A1D5-B6012811859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95E21A5-0977-44DA-97DF-67CB5E287FB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CA0643-CA2B-40D6-8CAC-8E48EAEFE19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94B63-B9F8-4095-BDA2-BD6A74607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903CCF-6569-4366-87D3-EBBC97B9C5E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BB2470C-200D-48A9-A639-EBA3396014C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057CAC5-ADCD-4D55-9F50-4BF2854D492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E483974-86D1-46CA-B1FE-D6368802129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A94702E-5E04-42DA-959F-3D8B2255C12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188B17E-A4BE-4D3E-9DE9-815C6AFB6DF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75C78FF-392C-44C9-BA90-AB9CBE8F73A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F1B9E8A-099A-4209-AC6D-04D1B47FD4A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52AF909-B8A1-4A1F-A43C-F2E9D732CEE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FA834E9-D78A-4C6C-B5E3-7CCDD02271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84BC4-B89F-4635-B6D0-29912E21F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27EB95A-D644-429D-A7DC-3128FDD30FF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80BA5E-966A-46FA-A5DF-C76653AA5ED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DA9806-918D-4E70-8C1F-AD727C1252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A2BCC16-55C2-472C-B813-E2913037A5F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D10FE3F-74ED-4009-AB74-F3CB054B72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71AEFF3-2875-4440-8952-E6EE0208B37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5E5DC94-B0F8-48B6-82D7-503565528C6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20D24DF-13C5-4B1F-8A82-FCD24D308A2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0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D3FF442-8F16-4A83-ABC7-D55DFAAE575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FE6B11A-19ED-46A9-8B12-4E218452AB8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42949-154A-445F-A23E-84F53C8F8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2053B06-6BE3-4FAA-B51B-CFA3A433EDB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196CA08-B72B-4966-B7D3-8F3D693183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758C3D7-9A01-4F4A-9D7D-B703192EA3A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0FCB7DA-2223-44EA-A40A-F0CB2716757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2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236AF4B-566E-43A0-B316-4529F2C9AD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81B4B9B-A450-4950-BEE4-3A9EAF0CA81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C42FD8E-7169-436F-BF84-360199A7091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9A1F4D9-CAB6-4C92-9E99-85678485215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0FD7D9D-AE90-4BE9-9580-C6371ABD323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2B84A52-62D6-4A12-9266-E79E585EB62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053E8D-7625-4550-ABEF-2586194C2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DCC6E0C-9C7D-470B-A90D-5F8C85C8B6C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32FEC4E-4085-46F2-9C31-A19A82632BE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7F870A2-CD1F-4CA8-975B-A6044CE6108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6AAF5AA-0F8A-49C2-868E-80C19898DCB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164A319-65BC-437C-995D-FB14F087905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6DB1008-C4AB-4107-A6A1-F9588714B9A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7A38F33-615F-4FCE-B8BD-3BB76F62872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3AF6D86-481B-431A-9E2A-6212B61EEC3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4C8DB0E-A9DC-49FE-91AE-47FA6E60E95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1C6B415-DC20-46A1-B586-B6806DF76BB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428707-ABAF-4B1C-847B-7E70CD3CB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9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B0EAECA-C6F8-4004-98F0-EDEA3E8026A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FAAE481-9BB5-4E97-9F40-8DE4291127A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29E672C-5688-4DA7-9420-8D943F5A57A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87724F3-368F-4503-9608-23CEB3CFE76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2AA6514-C154-4F87-AC04-864ADB0FD47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112E36F-C4A5-42CA-8D97-0A8A14560BA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79894E4-90F1-4D07-9D8D-4A0E381D4CF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F654D20-D605-430D-B6E5-4984C633DB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2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F0AE240-11FB-46E2-BB9E-74CBD2504D5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DFD83EB-3C3D-45E3-A63A-A7A9614A283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DE004-5FA0-4AC1-A018-9B3CDC94BF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16E9F18-E9CD-4D15-802B-4702906CF52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37963D5-AA80-4681-A651-96CF0FC8DB0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4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73F57CF-36BA-49EB-8312-0048FDCC0B1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8D23FDD-D9CD-4971-88A4-275569B12C9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09AC20F-DB24-4C31-8D53-1FBBCB2F43E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C5CFA50-7D2B-4914-A90B-65840101E6D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D857CF1-972A-4AF4-A7DF-3C372257FF0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3798FA4-E39A-4811-A517-BC1B1F2851E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F24A99D-0EDD-48AC-9E89-A1B0470E1A5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3167646-8C07-4204-8401-FC2805317D9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7E1FB-ACFD-487F-BA23-E809B5D32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E5E2B46-BBF8-4D3D-98F4-9C74425CD2B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9BDF77-8901-44EC-B1B5-3F8233A84C8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7B923B3-0A7D-4611-8A51-198BB4CA351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540D217-8474-4C46-B759-7836145BA86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F843E90-2F37-4394-8CD6-29C2D33932D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2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2E7D4-6268-456C-B4F8-B0DF1D0C2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3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6BCF4A0-3A2A-444C-B444-8BAFB61C30C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D95B206-122C-42C5-A9C2-7363F39CEC1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8543799-2278-4CA9-ABEB-4A50E7DD762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E4725-F528-42C2-92DC-C100C86D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8E7AC-2731-440F-BDF9-1A253FC63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7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19DD5B6-88C9-46A0-B326-048ECA1DB4D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3512867-A186-4144-962F-687982B8EB5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7BE8A87-0E37-45C6-8C60-782054AB034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93B98AF-C96C-4C42-97E1-48D85D205DC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8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109377-E3C6-4609-BF18-3E8B7F68E94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C2B756A-C084-4552-A46B-1B38132AA17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34DD544-D9FC-4C0D-8E8E-C3725C94671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EA12C16-67AC-422E-A388-269B0E17CCB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0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44A88F8-1EC3-410A-8F80-DFCBB4C0996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763D1CE-26F7-42AD-9189-2CF56325D54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78BC0-C3D3-4BC1-B89C-5EA8318B9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12C32D7-EE06-41C0-8C9B-A0E20634BEC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0348627-380B-472C-8520-1386FF86CD9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E7030EA-FA8B-47ED-A3EB-4BA33F4F29B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26248CF-9A95-404D-9D2E-7D5EF06F95C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CEAF4F3-561F-4B4D-AEEF-1D999C505A4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0E528AC-DB0C-4F86-AB23-22CCFDC56E8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A47C7F9-61EA-4403-BD7B-C1D05363EAD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76C1D4F-060C-4488-B559-2BB1DB1F646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58B49E0-5A02-4E8E-B391-7BBE6742C99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57103D2-D23D-4F19-B871-CD244D726C2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60F17-E49D-4A50-9E78-9D06D32C2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5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A019A9E-A01C-4668-BF37-90FD1E5BB2B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8B99951-E4E1-4318-9FCA-769CFA58B54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7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C73D873-98C8-4576-9262-B52ED7EB0C8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7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FBEF605-634F-4727-B4F4-96988A5C8CC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8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76D424A-D277-4382-AF27-A40436F068E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9D8DA3E-9E00-4084-8396-E95F0FCE537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9A90B47-6EE6-4586-956F-B709F4783EA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8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9569A1D-DC2F-4200-BE39-CB6079802FA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82AE3ED-86F5-4655-8CF0-24C8D1A7E00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9151AD0-DA73-436E-8329-CF4366E45FD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C93EE-443E-4EA3-AB1A-8926D1817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CB3ECE0-4097-4ADE-8235-2F2A431E1A8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063A72F-34D5-4C5A-9068-03DAB8118CB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A654062-B70B-44E0-A0FA-1EC4F48EF4A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9B25195-46E0-46DB-8F32-617C90050EC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2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C9D0FE9-2875-46C0-8B52-E9C21B07B1B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69B6ED0-DB83-4C8D-8713-BC87471BCDF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3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843E9C6-6C04-4C76-A44D-035BA5156A9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CC036F2-028C-4D81-A5C8-C9E3E294B01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FD60EC8-94E7-4FE6-AC8C-453ECBDC3C1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3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27ACFEC-B899-4F45-A4FD-9BAE2DA148B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2A52A-6CC0-4414-8B09-30C0C9A58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0D2939D-AC86-4C6D-B195-12A0469C7EC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2B0DB75-9E46-45DE-9E41-5CE8E5A26A3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D9335F0-35B3-4F00-9F00-7A1D0763F74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F63047F-F3B9-43CE-BB65-AFE0EDE21DC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500142E-3162-471D-B2C6-B4780D228FB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F057526-0B81-4890-8D72-02CB6B35EA5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059215D-5592-45DA-AF11-1DF89A325C4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C1FACFB-B71E-4E67-9BBC-D25489D5A8A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8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299D42E-66D5-4B1C-9F0C-29919D4F325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ECAED60-A166-4DE5-9B34-87359C745E6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39263-DEE0-4ECA-9341-58B0B58CF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29AEC84-BD57-4D93-B839-54F8007CEFD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183BD6E-5786-41BE-B205-C57E29D6555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8172319-69F2-4B24-BD75-50FA0FFC7A9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ED8ED0F-32CC-4B3B-942D-801AE8718A6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0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547C4D9-C559-435C-81F2-03A8B942017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10FDC9D-9CE8-4542-A548-AED2C306C08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3FBEE42-6276-444D-941F-7787641DFB0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25B062A-D610-40BA-B3B1-696D42FE29C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98D4277-6EDF-4E3D-892E-020B2D7FA4F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629A4DB-5590-46A7-8D72-DCE2B372129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0F5A3-13A7-4944-93FC-CD29428C2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951CB1C-4DE1-4E9E-A31F-545D20994C0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953FAB8-D09D-4B42-802B-471345B84CB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A8349E7-1122-44A4-929C-274718C7417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4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0E44B9B-3596-4C91-8CD4-B0D94CBC3E7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4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DA64102-CC2B-4DDC-8AAB-5439222CE87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C4342CB-0844-41C8-9F76-9F08BE962ED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4045D9A-E828-43A9-92D4-1C42F1CC61D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27C40E8-4310-491C-A865-EB19E6906A1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F7216C7-31EA-49CB-A997-C8AFC28B8241}"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0AA1F86-4A29-4638-B26B-947581AB6D5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0AEB8E-32AB-4E18-8C5E-EA24025A4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E55EF21-3CB0-43FC-B13E-E2758DC87A0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FD344CF-3A0E-4ED4-88E9-09D0A47A8AF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9693352-AE5F-4384-A948-CA53032899C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F37177B-F2D8-45A4-8221-B413BD432C4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711A129-A50B-47C3-904C-1785C982E44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9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8610A0D-8A72-420C-900D-5CA6C94BC03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9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A4FF90A-FCD5-4B29-BFA6-951DA3A411F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A69758B-23EE-4DC7-B299-291F4BA0EBA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605E9C7-4AA1-4F5B-8571-6DF2CFDC6EE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3BF65B7-1C84-4043-B8F1-A42826B4EFD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44CF9-D788-4A58-93D9-7674BD0AEA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1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ABDA407-5BDC-4DC5-BE45-00AD68EB615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FCCF7E8-3444-4489-A4B6-1DE777BFCA8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3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C10B8D5-5286-4196-81D8-29F8A357928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3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6A69A8D-DB40-45EA-A960-7A2DC360B6D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4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9CE7856-ED18-4C78-BED9-A112C381ADF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D22BA06-EB3C-4821-8EBA-EF9C8633693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13D24E7-CFBF-4B44-97F5-11EDF8D9A4F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4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4183440-F773-4636-86C7-9A8C70E3EC1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7A49927-81A7-4510-B64F-41C53CA01BE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689FEC8-D7B3-4AE4-8D33-1FCD650E63B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E3A576-81EC-438E-AFCE-1BB18EF9E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F9B4614-C578-4D2B-B83A-E548EC1AD98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6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E6F5CD3-CECC-4CB0-9FF1-29D00D604446}"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6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7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7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6D622A2D-A1CE-48FA-821B-213A32CFCA11}"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8FE02C1-BF4F-4203-80E0-47C1014DBA3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8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ECC8026-2686-47FB-B58A-38B8C6C04C2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0676BD1-2A55-4E56-8817-572A19037A2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9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C0C4C53-FC6F-4F25-817F-03A1F3976A8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0FE5F0B-B611-4FA7-A982-95CAC040D67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3096BC2-154F-49FD-9252-83926443C2B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9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555AEFF-0E1A-4DEF-853A-1C81B031727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CEFD-3726-4963-85A2-8C5922B4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3995C-940F-4DBD-BDF0-4902FAD511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0E737D0-B87D-4912-8E8C-424CBA226C5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CEE3E3F-EC89-4A6E-AB1F-0F4400EB132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56DA7AD-E042-40EF-A05E-726A70128D7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3207017-0A2C-4BCD-BA7B-0D58F920690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9C603EF-DC14-43F0-86DB-FE0B84925F1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FE430B8-2EAA-44CD-90FB-96D53DDF59A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E82E4D9-4FB6-4AC1-AB77-DA38A22DD06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71AB3C0-62F1-4810-ABF5-5027A882466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4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E828C53-C8A0-4382-8BB6-95678D173D9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9B90B14-7628-43F8-8663-E5F21093D1C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CB6DF-85ED-45D5-BB66-6898B5929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91C221F-DC22-4988-8BA6-5DDB8BC03E1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14A5845-4C74-4E71-BE64-09EA9ED615D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1CEC9B1-87EC-4304-8181-4BE635AC289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AE05371-7767-4296-9BA2-5C271E3CD3C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D56E258-0913-4205-8741-6285F3C946B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331C928-5040-498D-826F-FB7C98728C2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7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A5702DA-6CAC-4F8C-A539-B133B26808E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006BAB7-D446-47BF-8121-5682E994404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DD9926A-E5D0-4DE3-ACD8-F36F9B7818C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EC95D39-C084-4653-8F1E-084E1421E1C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5B66A-EE0D-45B9-9CFC-F999AF30F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B74E980-1AF0-4302-B663-07D53248095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2885E9A-BA86-4C28-BB83-0016FB9ACFC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BB71CE3-D66A-4C17-B6FC-8AB68FF286B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7BF9128-2556-4545-81A5-B8E1F39D84A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ACBDE5E-B4DC-45E6-8FCC-A29D989BD12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7451F4F-0BF0-43FB-8C56-8669D341487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FF3C019-E64E-4608-B14F-C464FF6A700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D17EADE-B8E0-4994-B84E-AC118396F12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EC0F785-16EE-4871-B00B-7465D4DCA5E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1FE74-7CB7-48AF-9DEE-80601C1F7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4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011F9-7EDC-4425-BB83-E7947A598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FAA6C-5688-46AE-B726-06A541FC0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0532E-72C8-434A-B626-FAC95184D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BA927-0382-4B34-A387-E80E95EE6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8B4D1-A066-419F-8C84-139D73C71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E779C-1935-44FE-AEA2-AB291B69CC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A24E-D105-40BB-8E76-9752DD392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6CA17-18D0-4AA0-8019-1FD83AC461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517DF3-0927-43D1-A2C2-08189F0D6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6397D-6633-4650-A590-F75C11CBEE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51D72-CC0F-42B5-962D-4AD6BF209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94205-F687-4547-B88F-90A42269B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FB5E7-AE36-43C3-842A-4DB8501D6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100E3B-7F06-4421-8885-080DC686E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BC0D5-1A07-4081-8D5B-CA1395478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E4265-8944-45D9-B7D1-9EA21A183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44294-529F-48F8-A74E-2BC0E317F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00CB-D917-48B3-AD29-4E1EF5659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5103E-CAAF-4F84-BE92-76F8CE544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6F53A7-1D54-46F3-8A78-5034B8575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242418-ADE3-41CD-9A4C-C1821B74D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2A8277-8782-4223-9989-9D245D9EBA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5281B-84EE-4F67-8F73-C56BEDFBE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39D7E-F31B-48E2-BB79-74A24ADD8A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E5DFF-3013-433F-A389-3CBC38050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2BA0D-A1CE-4F1F-A8EC-DE1653327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A116E-63C4-4DFD-95FC-E9B9F3A14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F8E66-0025-44F4-8D91-1CEC48B8F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B2424-8C8E-48CE-8C37-A7F15730E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EE559E-5CD3-4818-AAE6-5626FB386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37EC4-58CB-45C1-8624-6558B8D71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FA18A-D8D0-408A-A0C4-313ED1A86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1B692D-E67A-4149-B751-B3662E06A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0B3BE-F64D-4BAF-8FDC-23D182BD8C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94E3EC-5996-475C-8213-F4842202A1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4BD9F-D36C-4FF2-A900-832B377259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F98F1-18F5-4837-8EF8-B20234B1D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53949-B891-4526-B698-79164C301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8C9254-3B5E-4F51-9037-E417AD1D3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DDDE-5103-4FAE-B0DF-70C4D158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0F7AD-B801-48F7-98FB-133B0E0EA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EF870-18B2-4BE8-A664-CA33EA69F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8F6FF-A442-461D-A750-7BD8EEFDC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A239D-6B62-409A-B8A4-2F4B21837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64FF01-3C25-471A-8678-B4C76AF56A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CA88C8-2366-404A-9803-32A8264BD7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3CC460-D607-4462-917D-344F9FC02D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D36B3D8-2DCA-4C0A-9C3C-A607EF1A61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954293A-6F80-478A-BC83-DC0098B42F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3630F7A-336E-42A1-9770-B5D5D895E4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240B-743D-4A01-B938-80CE0321CB04}"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3"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43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A7AD-B0B4-460D-9073-8DC641537A02}"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6DED-6FCE-40DF-B40B-0EE60C31C74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B0D0-41F9-4964-B057-E3E881EC6CE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0F50-1953-4016-B768-E066D97539F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5A85-D912-4B53-A52A-E95AE0BDED4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AE99-70E2-4803-8842-D2618701C06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CA90-285D-4934-A535-1F8596040C5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2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F587-EE00-4085-A3B7-4DACCCF2279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66"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B90B-D3FD-4ACA-AA6E-7FA94365CB4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6"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07"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A580-3021-4433-84C9-7E594728E09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9EA8-9EB4-4B6B-80AA-965D4909F123}"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0967-C315-46EF-A6D9-253F3FEEEFD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9"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993B-1443-4B87-8B0E-42E420BCE57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4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8E59-131A-4484-BBA4-187C525D540E}"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3"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94"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5EA6-FCC9-48A8-BF37-6246290232A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4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0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07D1-2AC2-469C-B131-6850AA167E84}"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9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7"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098"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BF5D-D03D-423C-AB55-4ECFE59068E1}"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4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15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9DBD-8F40-47FF-AEB9-73E6AD6EB9A2}"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0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20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E38B-4449-4A16-BEF5-CD5F0FF3475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5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25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F006-148E-47EE-A546-87409D008CC9}"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30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306"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F221-7F97-4F87-A880-302B3D080720}"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9"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9F4A-1AB9-434B-9C36-EF38CC1BEB8D}" type="slidenum">
              <a:rPr b="0" lang="en-GB" sz="1200" spc="-1" strike="noStrike">
                <a:solidFill>
                  <a:srgbClr val="898989"/>
                </a:solidFill>
                <a:latin typeface="Palatino Linotype"/>
                <a:ea typeface="Arial"/>
              </a:rPr>
              <a:t>&lt;number&gt;</a:t>
            </a:fld>
            <a:endParaRPr b="0" lang="en-US" sz="1200" spc="-1" strike="noStrike">
              <a:solidFill>
                <a:srgbClr val="000000"/>
              </a:solidFill>
              <a:latin typeface="Times New Roman"/>
            </a:endParaRPr>
          </a:p>
        </p:txBody>
      </p:sp>
      <p:sp>
        <p:nvSpPr>
          <p:cNvPr id="93"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35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7"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358"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F2D4-FC45-4C1B-8B21-BF0CEA43A708}"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9"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10"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0FB9-0EDF-4D79-AA78-C1F358D855E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6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1"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62"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8CB3-3007-4ECE-A0FA-3D079ECDAA9E}"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mpanula Consulting</a:t>
            </a:r>
            <a:endParaRPr b="0" lang="en-US" sz="1200" spc="-1" strike="noStrike">
              <a:solidFill>
                <a:srgbClr val="000000"/>
              </a:solidFill>
              <a:latin typeface="Arial"/>
            </a:endParaRPr>
          </a:p>
        </p:txBody>
      </p:sp>
      <p:sp>
        <p:nvSpPr>
          <p:cNvPr id="1512"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3" name="Picture 20" descr=""/>
          <p:cNvPicPr/>
          <p:nvPr/>
        </p:nvPicPr>
        <p:blipFill>
          <a:blip r:embed="rId2"/>
          <a:stretch/>
        </p:blipFill>
        <p:spPr>
          <a:xfrm>
            <a:off x="212760" y="2395440"/>
            <a:ext cx="542880" cy="579600"/>
          </a:xfrm>
          <a:prstGeom prst="rect">
            <a:avLst/>
          </a:prstGeom>
          <a:ln w="0">
            <a:noFill/>
          </a:ln>
        </p:spPr>
      </p:pic>
      <p:pic>
        <p:nvPicPr>
          <p:cNvPr id="1514" name="Picture 21" descr=""/>
          <p:cNvPicPr/>
          <p:nvPr/>
        </p:nvPicPr>
        <p:blipFill>
          <a:blip r:embed="rId3"/>
          <a:stretch/>
        </p:blipFill>
        <p:spPr>
          <a:xfrm>
            <a:off x="212760" y="3906720"/>
            <a:ext cx="542880" cy="579600"/>
          </a:xfrm>
          <a:prstGeom prst="rect">
            <a:avLst/>
          </a:prstGeom>
          <a:ln w="0">
            <a:noFill/>
          </a:ln>
        </p:spPr>
      </p:pic>
      <p:pic>
        <p:nvPicPr>
          <p:cNvPr id="1515" name="Picture 22" descr=""/>
          <p:cNvPicPr/>
          <p:nvPr/>
        </p:nvPicPr>
        <p:blipFill>
          <a:blip r:embed="rId4"/>
          <a:stretch/>
        </p:blipFill>
        <p:spPr>
          <a:xfrm>
            <a:off x="212760" y="5376960"/>
            <a:ext cx="542880" cy="579240"/>
          </a:xfrm>
          <a:prstGeom prst="rect">
            <a:avLst/>
          </a:prstGeom>
          <a:ln w="0">
            <a:noFill/>
          </a:ln>
        </p:spPr>
      </p:pic>
      <p:pic>
        <p:nvPicPr>
          <p:cNvPr id="1516" name="Picture 23" descr=""/>
          <p:cNvPicPr/>
          <p:nvPr/>
        </p:nvPicPr>
        <p:blipFill>
          <a:blip r:embed="rId5"/>
          <a:stretch/>
        </p:blipFill>
        <p:spPr>
          <a:xfrm>
            <a:off x="219240" y="1030320"/>
            <a:ext cx="542880" cy="579240"/>
          </a:xfrm>
          <a:prstGeom prst="rect">
            <a:avLst/>
          </a:prstGeom>
          <a:ln w="0">
            <a:noFill/>
          </a:ln>
        </p:spPr>
      </p:pic>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1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Arial"/>
            </a:endParaRPr>
          </a:p>
        </p:txBody>
      </p:sp>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6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9"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570"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ADDA-ACEB-46D0-B613-10F78FCE87A6}"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2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1"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622"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27E8-ADA4-48D8-8EF4-349E49658E56}"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7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3"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674"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7215-8691-4F3E-9DE2-498451005976}"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72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5"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726"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70FA-1108-49C9-A0BC-A38620AADEE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77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7"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778"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F28F-D38A-4E51-BD28-82516C4244F4}"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2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9"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830"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6F24-FBD0-489B-9E0C-D77A1367FED0}"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C625-0F57-413B-BACF-465AA2010346}" type="slidenum">
              <a:rPr b="0" lang="en-GB" sz="1200" spc="-1" strike="noStrike">
                <a:solidFill>
                  <a:srgbClr val="898989"/>
                </a:solidFill>
                <a:latin typeface="Palatino Linotype"/>
                <a:ea typeface="Arial"/>
              </a:rPr>
              <a:t>&lt;number&gt;</a:t>
            </a:fld>
            <a:endParaRPr b="0" lang="en-US" sz="1200" spc="-1" strike="noStrike">
              <a:solidFill>
                <a:srgbClr val="000000"/>
              </a:solidFill>
              <a:latin typeface="Times New Roman"/>
            </a:endParaRPr>
          </a:p>
        </p:txBody>
      </p:sp>
      <p:sp>
        <p:nvSpPr>
          <p:cNvPr id="14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1"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882"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B9D2-05D5-49BA-A9F1-4F8ED55492E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3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3"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934"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8E94-C62D-47EB-A32F-DFC15BF12C26}"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8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98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E797-9D0F-4DC9-8C97-205F9C1E8F73}"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3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20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2410-5D86-421D-8756-CAA89B4EE3EE}"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8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9"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2090"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FA10-7DD8-4CFA-AA5D-81A70A13503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mpanula Consulting</a:t>
            </a:r>
            <a:endParaRPr b="0" lang="en-US" sz="1200" spc="-1" strike="noStrike">
              <a:solidFill>
                <a:srgbClr val="000000"/>
              </a:solidFill>
              <a:latin typeface="Arial"/>
            </a:endParaRPr>
          </a:p>
        </p:txBody>
      </p:sp>
      <p:sp>
        <p:nvSpPr>
          <p:cNvPr id="2140"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1" name="Picture 20" descr=""/>
          <p:cNvPicPr/>
          <p:nvPr/>
        </p:nvPicPr>
        <p:blipFill>
          <a:blip r:embed="rId2"/>
          <a:stretch/>
        </p:blipFill>
        <p:spPr>
          <a:xfrm>
            <a:off x="212760" y="2395440"/>
            <a:ext cx="542880" cy="579600"/>
          </a:xfrm>
          <a:prstGeom prst="rect">
            <a:avLst/>
          </a:prstGeom>
          <a:ln w="0">
            <a:noFill/>
          </a:ln>
        </p:spPr>
      </p:pic>
      <p:pic>
        <p:nvPicPr>
          <p:cNvPr id="2142" name="Picture 21" descr=""/>
          <p:cNvPicPr/>
          <p:nvPr/>
        </p:nvPicPr>
        <p:blipFill>
          <a:blip r:embed="rId3"/>
          <a:stretch/>
        </p:blipFill>
        <p:spPr>
          <a:xfrm>
            <a:off x="212760" y="3906720"/>
            <a:ext cx="542880" cy="579600"/>
          </a:xfrm>
          <a:prstGeom prst="rect">
            <a:avLst/>
          </a:prstGeom>
          <a:ln w="0">
            <a:noFill/>
          </a:ln>
        </p:spPr>
      </p:pic>
      <p:pic>
        <p:nvPicPr>
          <p:cNvPr id="2143" name="Picture 22" descr=""/>
          <p:cNvPicPr/>
          <p:nvPr/>
        </p:nvPicPr>
        <p:blipFill>
          <a:blip r:embed="rId4"/>
          <a:stretch/>
        </p:blipFill>
        <p:spPr>
          <a:xfrm>
            <a:off x="212760" y="5376960"/>
            <a:ext cx="542880" cy="579240"/>
          </a:xfrm>
          <a:prstGeom prst="rect">
            <a:avLst/>
          </a:prstGeom>
          <a:ln w="0">
            <a:noFill/>
          </a:ln>
        </p:spPr>
      </p:pic>
      <p:pic>
        <p:nvPicPr>
          <p:cNvPr id="2144" name="Picture 23" descr=""/>
          <p:cNvPicPr/>
          <p:nvPr/>
        </p:nvPicPr>
        <p:blipFill>
          <a:blip r:embed="rId5"/>
          <a:stretch/>
        </p:blipFill>
        <p:spPr>
          <a:xfrm>
            <a:off x="219240" y="1030320"/>
            <a:ext cx="542880" cy="579240"/>
          </a:xfrm>
          <a:prstGeom prst="rect">
            <a:avLst/>
          </a:prstGeom>
          <a:ln w="0">
            <a:noFill/>
          </a:ln>
        </p:spPr>
      </p:pic>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14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Rectangle 12"/>
          <p:cNvGrpSpPr/>
          <p:nvPr/>
        </p:nvGrpSpPr>
        <p:grpSpPr>
          <a:xfrm>
            <a:off x="347760" y="2944800"/>
            <a:ext cx="7143480" cy="2462400"/>
            <a:chOff x="347760" y="2944800"/>
            <a:chExt cx="7143480" cy="2462400"/>
          </a:xfrm>
        </p:grpSpPr>
        <p:pic>
          <p:nvPicPr>
            <p:cNvPr id="195" name="Rectangle 12" descr=""/>
            <p:cNvPicPr/>
            <p:nvPr/>
          </p:nvPicPr>
          <p:blipFill>
            <a:blip r:embed="rId3"/>
            <a:stretch/>
          </p:blipFill>
          <p:spPr>
            <a:xfrm>
              <a:off x="349200" y="2945880"/>
              <a:ext cx="7139880" cy="2460960"/>
            </a:xfrm>
            <a:prstGeom prst="rect">
              <a:avLst/>
            </a:prstGeom>
            <a:ln w="0">
              <a:noFill/>
            </a:ln>
          </p:spPr>
        </p:pic>
        <p:sp>
          <p:nvSpPr>
            <p:cNvPr id="196"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Rectangle 13"/>
          <p:cNvGrpSpPr/>
          <p:nvPr/>
        </p:nvGrpSpPr>
        <p:grpSpPr>
          <a:xfrm>
            <a:off x="7570800" y="2944800"/>
            <a:ext cx="1195200" cy="2462400"/>
            <a:chOff x="7570800" y="2944800"/>
            <a:chExt cx="1195200" cy="2462400"/>
          </a:xfrm>
        </p:grpSpPr>
        <p:pic>
          <p:nvPicPr>
            <p:cNvPr id="198" name="Rectangle 13" descr=""/>
            <p:cNvPicPr/>
            <p:nvPr/>
          </p:nvPicPr>
          <p:blipFill>
            <a:blip r:embed="rId4"/>
            <a:stretch/>
          </p:blipFill>
          <p:spPr>
            <a:xfrm>
              <a:off x="7570800" y="2944800"/>
              <a:ext cx="1195200" cy="2462400"/>
            </a:xfrm>
            <a:prstGeom prst="rect">
              <a:avLst/>
            </a:prstGeom>
            <a:ln w="0">
              <a:noFill/>
            </a:ln>
          </p:spPr>
        </p:pic>
        <p:sp>
          <p:nvSpPr>
            <p:cNvPr id="199"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05"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32C6-FEEB-4895-8F14-06079ED326F8}" type="slidenum">
              <a:rPr b="0" lang="en-GB"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Rectangle 12"/>
          <p:cNvGrpSpPr/>
          <p:nvPr/>
        </p:nvGrpSpPr>
        <p:grpSpPr>
          <a:xfrm>
            <a:off x="450720" y="2944800"/>
            <a:ext cx="8266320" cy="2468520"/>
            <a:chOff x="450720" y="2944800"/>
            <a:chExt cx="8266320" cy="2468520"/>
          </a:xfrm>
        </p:grpSpPr>
        <p:pic>
          <p:nvPicPr>
            <p:cNvPr id="248" name="Rectangle 12" descr=""/>
            <p:cNvPicPr/>
            <p:nvPr/>
          </p:nvPicPr>
          <p:blipFill>
            <a:blip r:embed="rId3"/>
            <a:stretch/>
          </p:blipFill>
          <p:spPr>
            <a:xfrm>
              <a:off x="450720" y="2944800"/>
              <a:ext cx="8266320" cy="2468520"/>
            </a:xfrm>
            <a:prstGeom prst="rect">
              <a:avLst/>
            </a:prstGeom>
            <a:ln w="0">
              <a:noFill/>
            </a:ln>
          </p:spPr>
        </p:pic>
        <p:sp>
          <p:nvSpPr>
            <p:cNvPr id="249"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54"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5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4972-5498-444A-ABD4-60D22ED49A4B}"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DB24-1D9B-485E-B8F1-40F7E4C1FEAB}"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Rectangle 12"/>
          <p:cNvGrpSpPr/>
          <p:nvPr/>
        </p:nvGrpSpPr>
        <p:grpSpPr>
          <a:xfrm>
            <a:off x="560520" y="1504800"/>
            <a:ext cx="2719080" cy="3524400"/>
            <a:chOff x="560520" y="1504800"/>
            <a:chExt cx="2719080" cy="3524400"/>
          </a:xfrm>
        </p:grpSpPr>
        <p:pic>
          <p:nvPicPr>
            <p:cNvPr id="340" name="Rectangle 12" descr=""/>
            <p:cNvPicPr/>
            <p:nvPr/>
          </p:nvPicPr>
          <p:blipFill>
            <a:blip r:embed="rId3"/>
            <a:stretch/>
          </p:blipFill>
          <p:spPr>
            <a:xfrm>
              <a:off x="560520" y="1504800"/>
              <a:ext cx="2719080" cy="3524400"/>
            </a:xfrm>
            <a:prstGeom prst="rect">
              <a:avLst/>
            </a:prstGeom>
            <a:ln w="0">
              <a:noFill/>
            </a:ln>
          </p:spPr>
        </p:pic>
        <p:sp>
          <p:nvSpPr>
            <p:cNvPr id="341"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44"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4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34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40F8-B333-4B47-AEC3-D82B861D6095}"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Rectangle 12"/>
          <p:cNvGrpSpPr/>
          <p:nvPr/>
        </p:nvGrpSpPr>
        <p:grpSpPr>
          <a:xfrm>
            <a:off x="689040" y="4956120"/>
            <a:ext cx="7772040" cy="1371240"/>
            <a:chOff x="689040" y="4956120"/>
            <a:chExt cx="7772040" cy="1371240"/>
          </a:xfrm>
        </p:grpSpPr>
        <p:pic>
          <p:nvPicPr>
            <p:cNvPr id="387" name="Rectangle 12" descr=""/>
            <p:cNvPicPr/>
            <p:nvPr/>
          </p:nvPicPr>
          <p:blipFill>
            <a:blip r:embed="rId3"/>
            <a:stretch/>
          </p:blipFill>
          <p:spPr>
            <a:xfrm>
              <a:off x="691920" y="4959000"/>
              <a:ext cx="7769160" cy="1368360"/>
            </a:xfrm>
            <a:prstGeom prst="rect">
              <a:avLst/>
            </a:prstGeom>
            <a:ln w="0">
              <a:noFill/>
            </a:ln>
          </p:spPr>
        </p:pic>
        <p:sp>
          <p:nvSpPr>
            <p:cNvPr id="388"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9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9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26B3-5F5B-4D0E-B0F5-D46372F40FA1}"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396" name="PlaceHolder 5"/>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ofsted.gov.uk/resources/note-for-inspectors-use-of-assessment-information-during-inspections-201415" TargetMode="External"/><Relationship Id="rId2" Type="http://schemas.openxmlformats.org/officeDocument/2006/relationships/hyperlink" Target="http://www.ofsted.gov.uk/resources/note-for-inspectors-use-of-assessment-information-during-inspections-201415"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ubTitle"/>
          </p:nvPr>
        </p:nvSpPr>
        <p:spPr>
          <a:xfrm>
            <a:off x="1186920" y="3789360"/>
            <a:ext cx="6697800" cy="17748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BRIEFING FOR GOVERNORS</a:t>
            </a:r>
            <a:endParaRPr b="0" lang="en-US" sz="18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2191" name="PlaceHolder 2"/>
          <p:cNvSpPr>
            <a:spLocks noGrp="1"/>
          </p:cNvSpPr>
          <p:nvPr>
            <p:ph type="title"/>
          </p:nvPr>
        </p:nvSpPr>
        <p:spPr>
          <a:xfrm>
            <a:off x="604440" y="3141360"/>
            <a:ext cx="662940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47534c"/>
                </a:solidFill>
                <a:latin typeface="Book Antiqua"/>
              </a:rPr>
              <a:t>PRIMARYASSESSMENT AND ACCOUNTABILITY REFORMS</a:t>
            </a:r>
            <a:endParaRPr b="0" lang="en-US" sz="34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46836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2</a:t>
            </a:r>
            <a:endParaRPr b="0" lang="en-US" sz="3500" spc="-1" strike="noStrike">
              <a:solidFill>
                <a:srgbClr val="6b7d72"/>
              </a:solidFill>
              <a:latin typeface="Book Antiqua"/>
            </a:endParaRPr>
          </a:p>
        </p:txBody>
      </p:sp>
      <p:sp>
        <p:nvSpPr>
          <p:cNvPr id="2214" name=""/>
          <p:cNvSpPr txBox="1"/>
          <p:nvPr/>
        </p:nvSpPr>
        <p:spPr>
          <a:xfrm>
            <a:off x="456840" y="1628640"/>
            <a:ext cx="8218440" cy="4896000"/>
          </a:xfrm>
          <a:prstGeom prst="rect">
            <a:avLst/>
          </a:prstGeom>
          <a:noFill/>
          <a:ln w="0">
            <a:noFill/>
          </a:ln>
        </p:spPr>
        <p:txBody>
          <a:bodyPr anchor="t">
            <a:normAutofit/>
          </a:bodyPr>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For science, reading, and mathematics, there will be a single performance descriptor of the new expected standard.</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A sample of pupils will continue to sit tests in science to give a picture of national performance. (Not reported to parents).</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The results of the tests in reading; mathematics; and, grammar, punctuation and spelling will be reported to pupils and parents as scaled scores. (A scaled score is a score where 100 will represent the new expected standard for that stage)</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Parents will be provided with their child’s score alongside the average for their school, the local area and nationally. (Not decile rankings).</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64b3c"/>
              </a:solidFill>
              <a:latin typeface="Century Gothic"/>
            </a:endParaRPr>
          </a:p>
        </p:txBody>
      </p:sp>
      <p:sp>
        <p:nvSpPr>
          <p:cNvPr id="2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ea typeface="Calibri"/>
              </a:rPr>
              <a:t>LOW ATTAINING PUPILS </a:t>
            </a:r>
            <a:br>
              <a:rPr sz="3200"/>
            </a:br>
            <a:endParaRPr b="0" lang="en-US" sz="3200" spc="-1" strike="noStrike">
              <a:solidFill>
                <a:srgbClr val="6b7d72"/>
              </a:solidFill>
              <a:latin typeface="Book Antiqua"/>
            </a:endParaRPr>
          </a:p>
        </p:txBody>
      </p:sp>
      <p:sp>
        <p:nvSpPr>
          <p:cNvPr id="2217" name=""/>
          <p:cNvSpPr txBox="1"/>
          <p:nvPr/>
        </p:nvSpPr>
        <p:spPr>
          <a:xfrm>
            <a:off x="468360" y="1700280"/>
            <a:ext cx="8229600" cy="3806640"/>
          </a:xfrm>
          <a:prstGeom prst="rect">
            <a:avLst/>
          </a:prstGeom>
          <a:noFill/>
          <a:ln w="0">
            <a:noFill/>
          </a:ln>
        </p:spPr>
        <p:txBody>
          <a:bodyPr anchor="t">
            <a:normAutofit/>
          </a:bodyPr>
          <a:p>
            <a:pPr marL="343080" indent="-228600">
              <a:spcBef>
                <a:spcPts val="700"/>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ea typeface="Calibri"/>
              </a:rPr>
              <a:t>There will  be a small minority of pupils for whom assessment arrangements under the national curriculum will not be appropriate. These pupils will have their attainment assessed by teachers.</a:t>
            </a:r>
            <a:endParaRPr b="0" lang="en-US" sz="2800" spc="-1" strike="noStrike">
              <a:solidFill>
                <a:srgbClr val="564b3c"/>
              </a:solidFill>
              <a:latin typeface="Century Gothic"/>
            </a:endParaRPr>
          </a:p>
          <a:p>
            <a:pPr marL="343080" indent="-228600">
              <a:spcBef>
                <a:spcPts val="700"/>
              </a:spcBef>
              <a:spcAft>
                <a:spcPts val="836"/>
              </a:spcAft>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ea typeface="Calibri"/>
              </a:rPr>
              <a:t>P-scales will be retained for reporting teachers’ judgements. The content of the P-scales will remain unchanged.</a:t>
            </a:r>
            <a:r>
              <a:rPr b="0" lang="en-GB" sz="2800" spc="-1" strike="noStrike" baseline="30000">
                <a:solidFill>
                  <a:srgbClr val="000000"/>
                </a:solidFill>
                <a:latin typeface="Century Gothic"/>
                <a:ea typeface="Calibri"/>
              </a:rPr>
              <a:t> </a:t>
            </a:r>
            <a:endParaRPr b="0" lang="en-US" sz="2800" spc="-1" strike="noStrike">
              <a:solidFill>
                <a:srgbClr val="564b3c"/>
              </a:solidFill>
              <a:latin typeface="Century Gothic"/>
            </a:endParaRPr>
          </a:p>
          <a:p>
            <a:pPr marL="343080" indent="-228600">
              <a:lnSpc>
                <a:spcPct val="100000"/>
              </a:lnSpc>
              <a:spcBef>
                <a:spcPts val="499"/>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ea typeface="Calibri"/>
              </a:rPr>
              <a:t>LOW ATTAINING PUPILS </a:t>
            </a:r>
            <a:br>
              <a:rPr sz="3200"/>
            </a:br>
            <a:endParaRPr b="0" lang="en-US" sz="3200" spc="-1" strike="noStrike">
              <a:solidFill>
                <a:srgbClr val="6b7d72"/>
              </a:solidFill>
              <a:latin typeface="Book Antiqua"/>
            </a:endParaRPr>
          </a:p>
        </p:txBody>
      </p:sp>
      <p:sp>
        <p:nvSpPr>
          <p:cNvPr id="2219" name=""/>
          <p:cNvSpPr txBox="1"/>
          <p:nvPr/>
        </p:nvSpPr>
        <p:spPr>
          <a:xfrm>
            <a:off x="468360" y="1700280"/>
            <a:ext cx="8229600" cy="3806640"/>
          </a:xfrm>
          <a:prstGeom prst="rect">
            <a:avLst/>
          </a:prstGeom>
          <a:noFill/>
          <a:ln w="0">
            <a:noFill/>
          </a:ln>
        </p:spPr>
        <p:txBody>
          <a:bodyPr anchor="t">
            <a:normAutofit/>
          </a:bodyPr>
          <a:p>
            <a:pPr marL="343080" indent="-228600">
              <a:lnSpc>
                <a:spcPct val="100000"/>
              </a:lnSpc>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Calibri"/>
              </a:rPr>
              <a:t> </a:t>
            </a:r>
            <a:r>
              <a:rPr b="0" lang="en-GB" sz="2000" spc="-1" strike="noStrike">
                <a:solidFill>
                  <a:srgbClr val="000000"/>
                </a:solidFill>
                <a:latin typeface="Century Gothic"/>
                <a:ea typeface="Calibri"/>
              </a:rPr>
              <a:t>Where pupils are working above the P-scales but below the level of the test, we will provide further information to enable teachers to assess attainment at the end of the relevant key stage in the context of the new national curriculum. </a:t>
            </a:r>
            <a:endParaRPr b="0" lang="en-US" sz="2000" spc="-1" strike="noStrike">
              <a:solidFill>
                <a:srgbClr val="564b3c"/>
              </a:solidFill>
              <a:latin typeface="Century Gothic"/>
            </a:endParaRPr>
          </a:p>
          <a:p>
            <a:pPr marL="343080" indent="-228600">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Calibri"/>
              </a:rPr>
              <a:t>Schools will remain accountable through robust inspection which looks at teacher assessments of low attaining pupils and whether pupils are making the appropriate progress. </a:t>
            </a:r>
            <a:endParaRPr b="0" lang="en-US" sz="2000" spc="-1" strike="noStrike">
              <a:solidFill>
                <a:srgbClr val="564b3c"/>
              </a:solidFill>
              <a:latin typeface="Century Gothic"/>
            </a:endParaRPr>
          </a:p>
          <a:p>
            <a:pPr marL="343080" indent="-228600">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Calibri"/>
              </a:rPr>
              <a:t>External moderation of P-scale teacher assessment as part of our further work on moderation.</a:t>
            </a:r>
            <a:r>
              <a:rPr b="1" lang="en-GB" sz="2000" spc="-1" strike="noStrike">
                <a:solidFill>
                  <a:srgbClr val="000000"/>
                </a:solidFill>
                <a:latin typeface="Century Gothic"/>
                <a:ea typeface="Calibri"/>
              </a:rPr>
              <a:t> </a:t>
            </a:r>
            <a:endParaRPr b="0" lang="en-US" sz="2000" spc="-1" strike="noStrike">
              <a:solidFill>
                <a:srgbClr val="564b3c"/>
              </a:solidFill>
              <a:latin typeface="Century Gothic"/>
            </a:endParaRPr>
          </a:p>
          <a:p>
            <a:pPr marL="343080" indent="-228600">
              <a:lnSpc>
                <a:spcPct val="100000"/>
              </a:lnSpc>
              <a:spcBef>
                <a:spcPts val="499"/>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FLOOR STANDARDS </a:t>
            </a:r>
            <a:br>
              <a:rPr sz="3200"/>
            </a:br>
            <a:endParaRPr b="0" lang="en-US" sz="3200" spc="-1" strike="noStrike">
              <a:solidFill>
                <a:srgbClr val="6b7d72"/>
              </a:solidFill>
              <a:latin typeface="Book Antiqua"/>
            </a:endParaRPr>
          </a:p>
        </p:txBody>
      </p:sp>
      <p:sp>
        <p:nvSpPr>
          <p:cNvPr id="2221" name=""/>
          <p:cNvSpPr txBox="1"/>
          <p:nvPr/>
        </p:nvSpPr>
        <p:spPr>
          <a:xfrm>
            <a:off x="468360" y="1773360"/>
            <a:ext cx="8229600" cy="4535280"/>
          </a:xfrm>
          <a:prstGeom prst="rect">
            <a:avLst/>
          </a:prstGeom>
          <a:noFill/>
          <a:ln w="0">
            <a:noFill/>
          </a:ln>
        </p:spPr>
        <p:txBody>
          <a:bodyPr anchor="t">
            <a:normAutofit fontScale="99000"/>
          </a:bodyPr>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Schools will only meet the progress standard if pupils make sufficient progress in all of reading, writing and mathematics.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Schools are expected to aim to have 85% of their pupils at this new higher standard for the end of key stage 2 by 2016.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564b3c"/>
                </a:solidFill>
                <a:latin typeface="Century Gothic"/>
              </a:rPr>
              <a:t>An all-through primary school will be above the floor standard if: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pupils make sufficient progress at key stage 2 from their starting point in the reception baseline; </a:t>
            </a:r>
            <a:r>
              <a:rPr b="1" lang="en-GB" sz="1700" spc="-1" strike="noStrike">
                <a:solidFill>
                  <a:srgbClr val="564b3c"/>
                </a:solidFill>
                <a:latin typeface="Century Gothic"/>
              </a:rPr>
              <a:t>or</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85% or more of pupils meet the new expected standard at the end of key stage 2 (similar to a level 4b under the current system).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564b3c"/>
                </a:solidFill>
                <a:latin typeface="Century Gothic"/>
              </a:rPr>
              <a:t>A junior or middle school will be above the floor standard if:</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pupils make sufficient progress at key stage 2 from their starting point at key stage 1; </a:t>
            </a:r>
            <a:r>
              <a:rPr b="1" lang="en-GB" sz="1700" spc="-1" strike="noStrike">
                <a:solidFill>
                  <a:srgbClr val="564b3c"/>
                </a:solidFill>
                <a:latin typeface="Century Gothic"/>
              </a:rPr>
              <a:t>or</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85% or more of pupils meet the new expected standard at the end of key stage 2 (similar to a level 4b under the current system).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564b3c"/>
                </a:solidFill>
                <a:latin typeface="Century Gothic"/>
              </a:rPr>
              <a:t>Arrangements for measuring the progress of pupils in infant or first schools from their starting point in the reception baseline is still being considered.</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PUBLISHING INFORMATION ON SCHOOL PERFORMANCE </a:t>
            </a:r>
            <a:endParaRPr b="0" lang="en-US" sz="3200" spc="-1" strike="noStrike">
              <a:solidFill>
                <a:srgbClr val="6b7d72"/>
              </a:solidFill>
              <a:latin typeface="Book Antiqua"/>
            </a:endParaRPr>
          </a:p>
        </p:txBody>
      </p:sp>
      <p:sp>
        <p:nvSpPr>
          <p:cNvPr id="2223" name=""/>
          <p:cNvSpPr txBox="1"/>
          <p:nvPr/>
        </p:nvSpPr>
        <p:spPr>
          <a:xfrm>
            <a:off x="468360" y="1773000"/>
            <a:ext cx="822960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64b3c"/>
                </a:solidFill>
                <a:latin typeface="Century Gothic"/>
              </a:rPr>
              <a:t>Schools will be required to publish a suite of indicators of performance on their website in a standard format: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average progress made by pupils in reading, writing and mathematics;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percentage of pupils achieving the expected standard in reading, writing and mathematics at the end of key stage 2;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average score of pupils in their end of key stage 2 assessments; and,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percentage of pupils who achieve a high score in all areas at the end of key stage 2.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PUBLISHING INFORMATION ON SCHOOL PERFORMANCE </a:t>
            </a:r>
            <a:endParaRPr b="0" lang="en-US" sz="3200" spc="-1" strike="noStrike">
              <a:solidFill>
                <a:srgbClr val="6b7d72"/>
              </a:solidFill>
              <a:latin typeface="Book Antiqua"/>
            </a:endParaRPr>
          </a:p>
        </p:txBody>
      </p:sp>
      <p:sp>
        <p:nvSpPr>
          <p:cNvPr id="2225" name=""/>
          <p:cNvSpPr txBox="1"/>
          <p:nvPr/>
        </p:nvSpPr>
        <p:spPr>
          <a:xfrm>
            <a:off x="457200" y="1752480"/>
            <a:ext cx="8229600" cy="47721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For the purpose of comparisons between schools across the country:</a:t>
            </a:r>
            <a:endParaRPr b="0" lang="en-US" sz="20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a phonics check near the end of year 1;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a teacher assessment at the end of key stage 1 in mathematics; reading; and, writing, informed by pupils’ scores in externally-set but internally-marked tests (writing will be partly informed by the grammar, punctuation and spelling test); and teacher assessment of speaking and listening and science;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national tests at the end of key stage 2 in: mathematics; reading; grammar, punctuation and spelling; and a teacher assessment of mathematics, reading, writing, and science.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HILTINGBURY LEARNING LADDERS</a:t>
            </a:r>
            <a:endParaRPr b="0" lang="en-US" sz="3500" spc="-1" strike="noStrike">
              <a:solidFill>
                <a:srgbClr val="6b7d72"/>
              </a:solidFill>
              <a:latin typeface="Book Antiqua"/>
            </a:endParaRPr>
          </a:p>
        </p:txBody>
      </p:sp>
      <p:sp>
        <p:nvSpPr>
          <p:cNvPr id="2227"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tes.co.uk/teaching-resource/Hiltingbury-Learning-Ladders-6436817/</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ubTitle"/>
          </p:nvPr>
        </p:nvSpPr>
        <p:spPr>
          <a:xfrm>
            <a:off x="642600" y="4648320"/>
            <a:ext cx="6553080" cy="457200"/>
          </a:xfrm>
          <a:prstGeom prst="rect">
            <a:avLst/>
          </a:prstGeom>
          <a:noFill/>
          <a:ln w="0">
            <a:noFill/>
          </a:ln>
        </p:spPr>
        <p:txBody>
          <a:bodyPr lIns="0" rIns="0" tIns="0" bIns="0" anchor="t">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ffffff"/>
              </a:solidFill>
              <a:latin typeface="Century Gothic"/>
            </a:endParaRPr>
          </a:p>
        </p:txBody>
      </p:sp>
      <p:sp>
        <p:nvSpPr>
          <p:cNvPr id="2229"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7534c"/>
                </a:solidFill>
                <a:latin typeface="Book Antiqua"/>
              </a:rPr>
              <a:t>NAHT COMMISSION REPORT ON ASSESSMENT</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DON’T PANIC….</a:t>
            </a:r>
            <a:endParaRPr b="0" lang="en-US" sz="3500" spc="-1" strike="noStrike">
              <a:solidFill>
                <a:srgbClr val="6b7d72"/>
              </a:solidFill>
              <a:latin typeface="Book Antiqua"/>
            </a:endParaRPr>
          </a:p>
        </p:txBody>
      </p:sp>
      <p:sp>
        <p:nvSpPr>
          <p:cNvPr id="2231" name=""/>
          <p:cNvSpPr txBox="1"/>
          <p:nvPr/>
        </p:nvSpPr>
        <p:spPr>
          <a:xfrm>
            <a:off x="457200" y="1752120"/>
            <a:ext cx="8229600" cy="4373640"/>
          </a:xfrm>
          <a:prstGeom prst="rect">
            <a:avLst/>
          </a:prstGeom>
          <a:noFill/>
          <a:ln w="0">
            <a:noFill/>
          </a:ln>
        </p:spPr>
        <p:txBody>
          <a:bodyPr anchor="t">
            <a:normAutofit/>
          </a:bodyPr>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564b3c"/>
                </a:solidFill>
                <a:latin typeface="Century Gothic"/>
              </a:rPr>
              <a:t>“</a:t>
            </a:r>
            <a:r>
              <a:rPr b="0" lang="en-GB" sz="3700" spc="-1" strike="noStrike">
                <a:solidFill>
                  <a:srgbClr val="564b3c"/>
                </a:solidFill>
                <a:latin typeface="Century Gothic"/>
              </a:rPr>
              <a:t>There will be a mixed economy in most schools as they see current pupils through the final years of the old system and engage with the new curriculum. Schools are advised to evolve new structures, rather than try to cope with a barren landscape devoid of the old.”</a:t>
            </a:r>
            <a:endParaRPr b="0" lang="en-US" sz="37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3" name=""/>
          <p:cNvSpPr txBox="1"/>
          <p:nvPr/>
        </p:nvSpPr>
        <p:spPr>
          <a:xfrm>
            <a:off x="628560" y="1825560"/>
            <a:ext cx="7886880" cy="467856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review their assessment practice against the principles and checklist set out in the report.</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All schools should have clear assessment principles and practices to which all staff are committed and which are implemented.</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Assessment should be part of all school development plans and should be reviewed regularly.</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Pupils should be assessed against objective agreed criteria rather than ranked against each other.</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Pupil progress and achievement should be communicated in terms of descriptive profiles rather than condensed to numerical summaries (although schools may wish to use numerical data for internal purpose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OFSTED AND ASSESSMENT</a:t>
            </a:r>
            <a:endParaRPr b="0" lang="en-US" sz="3500" spc="-1" strike="noStrike">
              <a:solidFill>
                <a:srgbClr val="6b7d72"/>
              </a:solidFill>
              <a:latin typeface="Book Antiqua"/>
            </a:endParaRPr>
          </a:p>
        </p:txBody>
      </p:sp>
      <p:sp>
        <p:nvSpPr>
          <p:cNvPr id="2193"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64b3c"/>
                </a:solidFill>
                <a:latin typeface="Century Gothic"/>
              </a:rPr>
              <a:t>Note for inspectors: use of assessment information during inspections in 2014/15</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Information about how inspection in 2014/15 and beyond will take account of the removal of national curriculum levels.</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00"/>
                </a:solidFill>
                <a:uFillTx/>
                <a:latin typeface="Century Gothic"/>
                <a:hlinkClick r:id="rId1"/>
              </a:rPr>
              <a:t>http</a:t>
            </a:r>
            <a:r>
              <a:rPr b="0" lang="en-GB" sz="2400" spc="-1" strike="noStrike" u="sng">
                <a:solidFill>
                  <a:srgbClr val="cccc00"/>
                </a:solidFill>
                <a:uFillTx/>
                <a:latin typeface="Century Gothic"/>
                <a:hlinkClick r:id="rId2"/>
              </a:rPr>
              <a:t>://</a:t>
            </a:r>
            <a:r>
              <a:rPr b="0" lang="en-GB" sz="2400" spc="-1" strike="noStrike" u="sng">
                <a:solidFill>
                  <a:srgbClr val="564b3c"/>
                </a:solidFill>
                <a:uFillTx/>
                <a:latin typeface="Century Gothic"/>
              </a:rPr>
              <a:t>www.ofsted.gov.uk/resources/note-for-inspectors-use-of-assessment-information-during-inspections-201415</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5"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will find it useful to be using consistent criteria for assessment.</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work in collaboration, for example in clusters, to ensure a consistent approach to assessment.</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External moderation is an essential element in producing teacher assessment that is reliable and comparable over time, and all schools should take part in such moder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identify a trained assessment lead, who will work with other local leads and nationally accredited assessment experts on moderation activitie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7"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Ofsted should articulate clearly how inspectors will take account of assessment practice in making judgements. </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The Ofsted school inspection framework should explore whether schools have effective assessment systems in place and consider how effectively schools are using pupil assessment information and data to improve learning in the classroom and at key points of transition between key stages and schools. </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The Department for Education should make a clear and unambiguous statement on the teacher assessment data that schools will be required to report to parents and submit to the Department for Educ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9"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onclusions about trends in performance may not be robust when schools are held accountable as we change from one assessment system to another.</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importance of CPD in ITT, for NQTs and more experienced teacher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number of pilot studies should be undertaken to look at the use of information technology (IT) to support and broaden understanding and application of assessment practice.</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use by schools of suitably modified National Curriculum levels as an interim measure in 2014 should be supported by the governmen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4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Schools should be asked to publish their principles of assessment from September 2014, rather than being required to publish a detailed assessment framework, which instead should be published by 2016.</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system wide review of assessment should be undertaken</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PRIMARY SCHOOL CASE STUDY</a:t>
            </a:r>
            <a:endParaRPr b="0" lang="en-US" sz="4000" spc="-1" strike="noStrike">
              <a:solidFill>
                <a:srgbClr val="6b7d72"/>
              </a:solidFill>
              <a:latin typeface="Book Antiqua"/>
            </a:endParaRPr>
          </a:p>
        </p:txBody>
      </p:sp>
      <p:sp>
        <p:nvSpPr>
          <p:cNvPr id="2243" name="PlaceHolder 2"/>
          <p:cNvSpPr>
            <a:spLocks noGrp="1"/>
          </p:cNvSpPr>
          <p:nvPr>
            <p:ph/>
          </p:nvPr>
        </p:nvSpPr>
        <p:spPr>
          <a:xfrm>
            <a:off x="736560" y="4606560"/>
            <a:ext cx="7696080" cy="5238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UNDERPINNING PRINCIPLES FOR ASSESSMENT</a:t>
            </a:r>
            <a:endParaRPr b="0" lang="en-US" sz="4000" spc="-1" strike="noStrike">
              <a:solidFill>
                <a:srgbClr val="6b7d72"/>
              </a:solidFill>
              <a:latin typeface="Book Antiqua"/>
            </a:endParaRPr>
          </a:p>
        </p:txBody>
      </p:sp>
      <p:sp>
        <p:nvSpPr>
          <p:cNvPr id="2245" name="PlaceHolder 2"/>
          <p:cNvSpPr>
            <a:spLocks noGrp="1"/>
          </p:cNvSpPr>
          <p:nvPr>
            <p:ph/>
          </p:nvPr>
        </p:nvSpPr>
        <p:spPr>
          <a:xfrm>
            <a:off x="736560" y="4606560"/>
            <a:ext cx="7696080" cy="5238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DESIGN CHECKLIST</a:t>
            </a:r>
            <a:endParaRPr b="0" lang="en-US" sz="4000" spc="-1" strike="noStrike">
              <a:solidFill>
                <a:srgbClr val="6b7d72"/>
              </a:solidFill>
              <a:latin typeface="Book Antiqua"/>
            </a:endParaRPr>
          </a:p>
        </p:txBody>
      </p:sp>
      <p:sp>
        <p:nvSpPr>
          <p:cNvPr id="2247" name="PlaceHolder 2"/>
          <p:cNvSpPr>
            <a:spLocks noGrp="1"/>
          </p:cNvSpPr>
          <p:nvPr>
            <p:ph/>
          </p:nvPr>
        </p:nvSpPr>
        <p:spPr>
          <a:xfrm>
            <a:off x="736560" y="4606560"/>
            <a:ext cx="7696080" cy="523800"/>
          </a:xfrm>
          <a:prstGeom prst="rect">
            <a:avLst/>
          </a:prstGeom>
          <a:noFill/>
          <a:ln w="0">
            <a:noFill/>
          </a:ln>
        </p:spPr>
        <p:txBody>
          <a:bodyPr anchor="ctr">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entury Gothic"/>
              </a:rPr>
              <a:t>(A POTENTIAL STARTING POINT FOR A POLICY)</a:t>
            </a: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title"/>
          </p:nvPr>
        </p:nvSpPr>
        <p:spPr>
          <a:xfrm>
            <a:off x="395280" y="182520"/>
            <a:ext cx="840888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cience Assessment</a:t>
            </a:r>
            <a:endParaRPr b="0" lang="en-US" sz="4000" spc="-1" strike="noStrike">
              <a:solidFill>
                <a:srgbClr val="000000"/>
              </a:solidFill>
              <a:latin typeface="Trebuchet MS"/>
            </a:endParaRPr>
          </a:p>
        </p:txBody>
      </p:sp>
      <p:sp>
        <p:nvSpPr>
          <p:cNvPr id="2249" name=""/>
          <p:cNvSpPr txBox="1"/>
          <p:nvPr/>
        </p:nvSpPr>
        <p:spPr>
          <a:xfrm>
            <a:off x="178920" y="1700280"/>
            <a:ext cx="8425080" cy="4967280"/>
          </a:xfrm>
          <a:prstGeom prst="rect">
            <a:avLst/>
          </a:prstGeom>
          <a:noFill/>
          <a:ln w="0">
            <a:noFill/>
          </a:ln>
        </p:spPr>
        <p:txBody>
          <a:bodyPr anchor="t">
            <a:normAutofit/>
          </a:bodyPr>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ers use formative assessment through the year…</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is used to provide a narrative annual report to parents and is passed to next teacher or school</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end of KS1, LKS2 and UKS2 teachers judge whether each pupil ‘has achieved’ or ‘not yet achieved’ in ‘science knowledge and understanding’ and ‘working scientific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end of each KS, individual pupil records are aggregated for each class, school or particular groups </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year proportion of Y6 children achieving  LO’s  in UKS2 reported to parents and governors – not collected centr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 national level – sample testing of Y6 pupils on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title"/>
          </p:nvPr>
        </p:nvSpPr>
        <p:spPr>
          <a:xfrm>
            <a:off x="468360" y="333360"/>
            <a:ext cx="7991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ssessing science – Where are we now?</a:t>
            </a:r>
            <a:endParaRPr b="0" lang="en-US" sz="4400" spc="-1" strike="noStrike">
              <a:solidFill>
                <a:srgbClr val="000000"/>
              </a:solidFill>
              <a:latin typeface="Trebuchet MS"/>
            </a:endParaRPr>
          </a:p>
        </p:txBody>
      </p:sp>
      <p:sp>
        <p:nvSpPr>
          <p:cNvPr id="2251" name=""/>
          <p:cNvSpPr txBox="1"/>
          <p:nvPr/>
        </p:nvSpPr>
        <p:spPr>
          <a:xfrm>
            <a:off x="468000" y="1844280"/>
            <a:ext cx="8280360" cy="482436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ing national picture</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as a core subject, alongside English and Maths</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sessment – statutory at end of KS1 and KS2 until at least 2016</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ennial sample tests to continue in Y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testing update </a:t>
            </a:r>
            <a:br>
              <a:rPr sz="4400"/>
            </a:br>
            <a:r>
              <a:rPr b="1" lang="en-GB" sz="4400" spc="-1" strike="noStrike">
                <a:solidFill>
                  <a:srgbClr val="000000"/>
                </a:solidFill>
                <a:latin typeface="Trebuchet MS"/>
              </a:rPr>
              <a:t>November 2013</a:t>
            </a:r>
            <a:endParaRPr b="0" lang="en-US" sz="4400" spc="-1" strike="noStrike">
              <a:solidFill>
                <a:srgbClr val="000000"/>
              </a:solidFill>
              <a:latin typeface="Trebuchet MS"/>
            </a:endParaRPr>
          </a:p>
        </p:txBody>
      </p:sp>
      <p:sp>
        <p:nvSpPr>
          <p:cNvPr id="2253" name=""/>
          <p:cNvSpPr txBox="1"/>
          <p:nvPr/>
        </p:nvSpPr>
        <p:spPr>
          <a:xfrm>
            <a:off x="468000" y="1700280"/>
            <a:ext cx="8280360" cy="4656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Summer 201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 children across English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children selected by external administrator who visits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ild completes three short test booklets; one for each programme of study with Sc1 / working scientifically fully integra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is not used for league tables or fed back to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ed at national lev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questions will be shared, from first selection used, on completion of first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PRIMARY ASSESSMENT</a:t>
            </a:r>
            <a:endParaRPr b="0" lang="en-US" sz="3500" spc="-1" strike="noStrike">
              <a:solidFill>
                <a:srgbClr val="6b7d72"/>
              </a:solidFill>
              <a:latin typeface="Book Antiqua"/>
            </a:endParaRPr>
          </a:p>
        </p:txBody>
      </p:sp>
      <p:sp>
        <p:nvSpPr>
          <p:cNvPr id="2195" name=""/>
          <p:cNvSpPr txBox="1"/>
          <p:nvPr/>
        </p:nvSpPr>
        <p:spPr>
          <a:xfrm>
            <a:off x="456840" y="1773360"/>
            <a:ext cx="7620120" cy="462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same for every subject:</a:t>
            </a:r>
            <a:endParaRPr b="0" lang="en-US" sz="2400" spc="-1" strike="noStrike">
              <a:solidFill>
                <a:srgbClr val="564b3c"/>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a:t>
            </a:r>
            <a:r>
              <a:rPr b="0" lang="en-GB" sz="2000" spc="-1" strike="noStrike">
                <a:solidFill>
                  <a:srgbClr val="564b3c"/>
                </a:solidFill>
                <a:latin typeface="Century Gothic"/>
              </a:rPr>
              <a:t>By the end of each key stage, pupils are expected to know, apply and understand the matters, skills and processes specified in the relevant programme of study’.</a:t>
            </a:r>
            <a:endParaRPr b="0" lang="en-US" sz="2000" spc="-1" strike="noStrike">
              <a:solidFill>
                <a:srgbClr val="564b3c"/>
              </a:solidFill>
              <a:latin typeface="Century Gothic"/>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ll tests and assessments will reflect the content of the new curriculum.</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title"/>
          </p:nvPr>
        </p:nvSpPr>
        <p:spPr>
          <a:xfrm>
            <a:off x="611280" y="260280"/>
            <a:ext cx="712944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ssessing science:</a:t>
            </a:r>
            <a:br>
              <a:rPr sz="4400"/>
            </a:br>
            <a:r>
              <a:rPr b="0" lang="en-GB" sz="4400" spc="-1" strike="noStrike">
                <a:solidFill>
                  <a:srgbClr val="000000"/>
                </a:solidFill>
                <a:latin typeface="Trebuchet MS"/>
              </a:rPr>
              <a:t>In the new curriculum? </a:t>
            </a:r>
            <a:endParaRPr b="0" lang="en-US" sz="4400" spc="-1" strike="noStrike">
              <a:solidFill>
                <a:srgbClr val="000000"/>
              </a:solidFill>
              <a:latin typeface="Trebuchet MS"/>
            </a:endParaRPr>
          </a:p>
        </p:txBody>
      </p:sp>
      <p:sp>
        <p:nvSpPr>
          <p:cNvPr id="2255" name=""/>
          <p:cNvSpPr txBox="1"/>
          <p:nvPr/>
        </p:nvSpPr>
        <p:spPr>
          <a:xfrm>
            <a:off x="468360" y="1699920"/>
            <a:ext cx="8207280" cy="4753080"/>
          </a:xfrm>
          <a:prstGeom prst="rect">
            <a:avLst/>
          </a:prstGeom>
          <a:noFill/>
          <a:ln w="0">
            <a:noFill/>
          </a:ln>
        </p:spPr>
        <p:txBody>
          <a:bodyPr anchor="t">
            <a:normAutofit/>
          </a:bodyPr>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grammes of study describe a sequence of knowledge and concepts. While it is </a:t>
            </a:r>
            <a:r>
              <a:rPr b="1" lang="en-GB" sz="2400" spc="-1" strike="noStrike">
                <a:solidFill>
                  <a:srgbClr val="000000"/>
                </a:solidFill>
                <a:latin typeface="Arial"/>
              </a:rPr>
              <a:t>important that pupils make progress</a:t>
            </a:r>
            <a:r>
              <a:rPr b="0" lang="en-GB" sz="2400" spc="-1" strike="noStrike">
                <a:solidFill>
                  <a:srgbClr val="000000"/>
                </a:solidFill>
                <a:latin typeface="Arial"/>
              </a:rPr>
              <a:t>, it is also vitally important that they </a:t>
            </a:r>
            <a:r>
              <a:rPr b="1" lang="en-GB" sz="2400" spc="-1" strike="noStrike">
                <a:solidFill>
                  <a:srgbClr val="000000"/>
                </a:solidFill>
                <a:latin typeface="Arial"/>
              </a:rPr>
              <a:t>develop secure understanding of each key block of knowledge and concepts </a:t>
            </a:r>
            <a:r>
              <a:rPr b="0" lang="en-GB" sz="2400" spc="-1" strike="noStrike">
                <a:solidFill>
                  <a:srgbClr val="000000"/>
                </a:solidFill>
                <a:latin typeface="Arial"/>
              </a:rPr>
              <a:t>in order to progress to the next stage.</a:t>
            </a:r>
            <a:endParaRPr b="0" lang="en-US" sz="2400" spc="-1" strike="noStrike">
              <a:solidFill>
                <a:srgbClr val="000000"/>
              </a:solidFill>
              <a:latin typeface="Arial"/>
            </a:endParaRPr>
          </a:p>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ecure, superficial understanding will not allow genuine progression: pupils may struggle at key points of transition (such as between primary and secondary school), build up serious misconceptions, and/or have significant difficulties in understanding higher-order cont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ART AND DESIGN</a:t>
            </a:r>
            <a:endParaRPr b="0" lang="en-US" sz="3500" spc="-1" strike="noStrike">
              <a:solidFill>
                <a:srgbClr val="6b7d72"/>
              </a:solidFill>
              <a:latin typeface="Book Antiqua"/>
            </a:endParaRPr>
          </a:p>
        </p:txBody>
      </p:sp>
      <p:sp>
        <p:nvSpPr>
          <p:cNvPr id="2257"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NSEAD is supportive of the removal of 'levels' but is aware that a vacuum has emerged in its place. In consultation with the art, craft and design education community and experts in assessment and progression we have prepared </a:t>
            </a:r>
            <a:r>
              <a:rPr b="0" i="1" lang="en-GB" sz="2400" spc="-1" strike="noStrike">
                <a:solidFill>
                  <a:srgbClr val="564b3c"/>
                </a:solidFill>
                <a:latin typeface="Century Gothic"/>
              </a:rPr>
              <a:t>A Framework for Progression, Planning for Learning, Assessment, Recording and Reporting</a:t>
            </a:r>
            <a:r>
              <a:rPr b="0" lang="en-GB" sz="2400" spc="-1" strike="noStrike">
                <a:solidFill>
                  <a:srgbClr val="564b3c"/>
                </a:solidFill>
                <a:latin typeface="Century Gothic"/>
              </a:rPr>
              <a:t> as a guide for teachers working at Key Stages 1-3 and including reference to the Early Years Foundation Stage and Key Stage 4.</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564b3c"/>
                </a:solidFill>
                <a:uFillTx/>
                <a:latin typeface="Century Gothic"/>
              </a:rPr>
              <a:t>http://www.nsead.org/curriculum-resources/assessment_and_progression.aspx</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COMPUTING</a:t>
            </a:r>
            <a:endParaRPr b="0" lang="en-US" sz="3500" spc="-1" strike="noStrike">
              <a:solidFill>
                <a:srgbClr val="6b7d72"/>
              </a:solidFill>
              <a:latin typeface="Book Antiqua"/>
            </a:endParaRPr>
          </a:p>
        </p:txBody>
      </p:sp>
      <p:sp>
        <p:nvSpPr>
          <p:cNvPr id="2259"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Primary Computing Assessment Guidance</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computingatschool.org.uk/data/uploads/CASPrimaryComputing.pdf (Pages 22-26)</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Progression in Computer Science (Omit reference to levels)</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computingatschool.org.uk/data/uploads/ComputingCurric.pdf (Pages 21-28)</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D&amp;T</a:t>
            </a:r>
            <a:endParaRPr b="0" lang="en-US" sz="3500" spc="-1" strike="noStrike">
              <a:solidFill>
                <a:srgbClr val="6b7d72"/>
              </a:solidFill>
              <a:latin typeface="Book Antiqua"/>
            </a:endParaRPr>
          </a:p>
        </p:txBody>
      </p:sp>
      <p:pic>
        <p:nvPicPr>
          <p:cNvPr id="2261" name="Content Placeholder 6" descr=""/>
          <p:cNvPicPr/>
          <p:nvPr/>
        </p:nvPicPr>
        <p:blipFill>
          <a:blip r:embed="rId1"/>
          <a:stretch/>
        </p:blipFill>
        <p:spPr>
          <a:xfrm>
            <a:off x="1609560" y="1938240"/>
            <a:ext cx="6785280" cy="2633760"/>
          </a:xfrm>
          <a:prstGeom prst="rect">
            <a:avLst/>
          </a:prstGeom>
          <a:ln w="0">
            <a:noFill/>
          </a:ln>
        </p:spPr>
      </p:pic>
      <p:sp>
        <p:nvSpPr>
          <p:cNvPr id="2262" name="Rectangle 7"/>
          <p:cNvSpPr/>
          <p:nvPr/>
        </p:nvSpPr>
        <p:spPr>
          <a:xfrm>
            <a:off x="108000" y="501480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the full document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dandtfordandt.wordpress.com/resources/nuffield-primary-dt-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GEOGRAPHY</a:t>
            </a:r>
            <a:endParaRPr b="0" lang="en-US" sz="3500" spc="-1" strike="noStrike">
              <a:solidFill>
                <a:srgbClr val="6b7d72"/>
              </a:solidFill>
              <a:latin typeface="Book Antiqua"/>
            </a:endParaRPr>
          </a:p>
        </p:txBody>
      </p:sp>
      <p:sp>
        <p:nvSpPr>
          <p:cNvPr id="2264"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reating a pathway through the new Geography National Curriculum:</a:t>
            </a:r>
            <a:endParaRPr b="0" lang="en-US" sz="2400" spc="-1" strike="noStrike">
              <a:solidFill>
                <a:srgbClr val="564b3c"/>
              </a:solidFill>
              <a:latin typeface="Century Gothic"/>
            </a:endParaRPr>
          </a:p>
          <a:p>
            <a:pPr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ww.primarynationalcurriculum2014.wikispaces.com/geography</a:t>
            </a:r>
            <a:endParaRPr b="0" lang="en-US" sz="20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Geographical Association</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geography.org.uk/eyprimary</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title"/>
          </p:nvPr>
        </p:nvSpPr>
        <p:spPr>
          <a:xfrm>
            <a:off x="522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reating a pathway through the new Geography National Curriculum.</a:t>
            </a:r>
            <a:endParaRPr b="0" lang="en-US" sz="4000" spc="-1" strike="noStrike">
              <a:solidFill>
                <a:srgbClr val="000000"/>
              </a:solidFill>
              <a:latin typeface="Calibri"/>
            </a:endParaRPr>
          </a:p>
        </p:txBody>
      </p:sp>
      <p:sp>
        <p:nvSpPr>
          <p:cNvPr id="2266" name="PlaceHolder 2"/>
          <p:cNvSpPr>
            <a:spLocks noGrp="1"/>
          </p:cNvSpPr>
          <p:nvPr>
            <p:ph type="subTitle"/>
          </p:nvPr>
        </p:nvSpPr>
        <p:spPr>
          <a:xfrm>
            <a:off x="1332000" y="3044520"/>
            <a:ext cx="6400800" cy="1176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0 steps to move you forward!</a:t>
            </a:r>
            <a:endParaRPr b="0" lang="en-US" sz="3200" spc="-1" strike="noStrike">
              <a:solidFill>
                <a:srgbClr val="000000"/>
              </a:solidFill>
              <a:latin typeface="Calibri"/>
            </a:endParaRPr>
          </a:p>
        </p:txBody>
      </p:sp>
      <p:sp>
        <p:nvSpPr>
          <p:cNvPr id="2267" name="TextBox 3"/>
          <p:cNvSpPr/>
          <p:nvPr/>
        </p:nvSpPr>
        <p:spPr>
          <a:xfrm>
            <a:off x="1187280" y="4059360"/>
            <a:ext cx="705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y to pres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eps to be carried out by the Subject 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eps to be carried out by the class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8" name="Picture 2" descr=""/>
          <p:cNvPicPr/>
          <p:nvPr/>
        </p:nvPicPr>
        <p:blipFill>
          <a:blip r:embed="rId1"/>
          <a:stretch/>
        </p:blipFill>
        <p:spPr>
          <a:xfrm>
            <a:off x="515880" y="4508640"/>
            <a:ext cx="692280" cy="542880"/>
          </a:xfrm>
          <a:prstGeom prst="rect">
            <a:avLst/>
          </a:prstGeom>
          <a:ln w="0">
            <a:noFill/>
          </a:ln>
        </p:spPr>
      </p:pic>
      <p:pic>
        <p:nvPicPr>
          <p:cNvPr id="2269" name="Picture 3" descr=""/>
          <p:cNvPicPr/>
          <p:nvPr/>
        </p:nvPicPr>
        <p:blipFill>
          <a:blip r:embed="rId2"/>
          <a:stretch/>
        </p:blipFill>
        <p:spPr>
          <a:xfrm>
            <a:off x="515880" y="5473800"/>
            <a:ext cx="428760" cy="547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HISTORY</a:t>
            </a:r>
            <a:endParaRPr b="0" lang="en-US" sz="3500" spc="-1" strike="noStrike">
              <a:solidFill>
                <a:srgbClr val="6b7d72"/>
              </a:solidFill>
              <a:latin typeface="Book Antiqua"/>
            </a:endParaRPr>
          </a:p>
        </p:txBody>
      </p:sp>
      <p:sp>
        <p:nvSpPr>
          <p:cNvPr id="2271"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 </a:t>
            </a:r>
            <a:r>
              <a:rPr b="0" lang="en-GB" sz="2400" spc="-1" strike="noStrike">
                <a:solidFill>
                  <a:srgbClr val="564b3c"/>
                </a:solidFill>
                <a:latin typeface="Century Gothic"/>
              </a:rPr>
              <a:t>Teachers need to remember to design their assessment so that they gain information on the historical skills and concepts demonstrated by children as well as historical factual knowledge.</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564b3c"/>
                </a:solidFill>
                <a:latin typeface="Century Gothic"/>
              </a:rPr>
              <a:t>• </a:t>
            </a:r>
            <a:r>
              <a:rPr b="0" lang="en-GB" sz="2400" spc="-1" strike="noStrike">
                <a:solidFill>
                  <a:srgbClr val="564b3c"/>
                </a:solidFill>
                <a:latin typeface="Century Gothic"/>
              </a:rPr>
              <a:t>Assessment needs to be related to historical objectives (do not make the mistake of assessing literacy objectives).</a:t>
            </a:r>
            <a:br>
              <a:rPr sz="2400"/>
            </a:b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HISTORY</a:t>
            </a:r>
            <a:endParaRPr b="0" lang="en-US" sz="3500" spc="-1" strike="noStrike">
              <a:solidFill>
                <a:srgbClr val="6b7d72"/>
              </a:solidFill>
              <a:latin typeface="Book Antiqua"/>
            </a:endParaRPr>
          </a:p>
        </p:txBody>
      </p:sp>
      <p:sp>
        <p:nvSpPr>
          <p:cNvPr id="2273"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564b3c"/>
                </a:solidFill>
                <a:latin typeface="Century Gothic"/>
              </a:rPr>
              <a:t>• </a:t>
            </a:r>
            <a:r>
              <a:rPr b="0" lang="en-GB" sz="2400" spc="-1" strike="noStrike">
                <a:solidFill>
                  <a:srgbClr val="564b3c"/>
                </a:solidFill>
                <a:latin typeface="Century Gothic"/>
              </a:rPr>
              <a:t>Try not just to over assess one aspect of history, e.g chronological assessment  for understanding of a range of skills and concepts.</a:t>
            </a:r>
            <a:br>
              <a:rPr sz="2400"/>
            </a:br>
            <a:r>
              <a:rPr b="0" lang="en-GB" sz="2400" spc="-1" strike="noStrike">
                <a:solidFill>
                  <a:srgbClr val="564b3c"/>
                </a:solidFill>
                <a:latin typeface="Century Gothic"/>
              </a:rPr>
              <a:t>• Ensure you assess a whole range of outcomes from children in order to give them an opportunity to show their understanding in different ways, do not just assess a written product.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historync.wordpress.com/assessment-1/assessment-of-progression/</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MUSIC</a:t>
            </a:r>
            <a:endParaRPr b="0" lang="en-US" sz="3500" spc="-1" strike="noStrike">
              <a:solidFill>
                <a:srgbClr val="6b7d72"/>
              </a:solidFill>
              <a:latin typeface="Book Antiqua"/>
            </a:endParaRPr>
          </a:p>
        </p:txBody>
      </p:sp>
      <p:sp>
        <p:nvSpPr>
          <p:cNvPr id="227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Martin Fautley, Reader in Education at Birmingham City University, has written extensively about AfL in music and his work can also be found at www.teachingmusic.org.uk</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Incorporated Society of Musicians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xpert, user friendly guidance for music educators, classroom teachers and hubs to get to grips with assessment and progression in the new curriculum. </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P.E.</a:t>
            </a:r>
            <a:endParaRPr b="0" lang="en-US" sz="3500" spc="-1" strike="noStrike">
              <a:solidFill>
                <a:srgbClr val="6b7d72"/>
              </a:solidFill>
              <a:latin typeface="Book Antiqua"/>
            </a:endParaRPr>
          </a:p>
        </p:txBody>
      </p:sp>
      <p:sp>
        <p:nvSpPr>
          <p:cNvPr id="2277" name=""/>
          <p:cNvSpPr txBox="1"/>
          <p:nvPr/>
        </p:nvSpPr>
        <p:spPr>
          <a:xfrm>
            <a:off x="457200" y="1752120"/>
            <a:ext cx="8229600" cy="4373640"/>
          </a:xfrm>
          <a:prstGeom prst="rect">
            <a:avLst/>
          </a:prstGeom>
          <a:noFill/>
          <a:ln w="0">
            <a:noFill/>
          </a:ln>
        </p:spPr>
        <p:txBody>
          <a:bodyPr anchor="t">
            <a:normAutofit/>
          </a:bodyPr>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www.primarynationalcurriculum2014.wikispaces.com/PE</a:t>
            </a:r>
            <a:endParaRPr b="0" lang="en-US" sz="2000" spc="-1" strike="noStrike">
              <a:solidFill>
                <a:srgbClr val="564b3c"/>
              </a:solidFill>
              <a:latin typeface="Century Gothic"/>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PE Skills assessment document – levels can be removed</a:t>
            </a: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 CASE FOR CHANGE – THE AIMS</a:t>
            </a:r>
            <a:endParaRPr b="0" lang="en-US" sz="3500" spc="-1" strike="noStrike">
              <a:solidFill>
                <a:srgbClr val="6b7d72"/>
              </a:solidFill>
              <a:latin typeface="Book Antiqua"/>
            </a:endParaRPr>
          </a:p>
        </p:txBody>
      </p:sp>
      <p:sp>
        <p:nvSpPr>
          <p:cNvPr id="2198"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 ‘</a:t>
            </a:r>
            <a:r>
              <a:rPr b="1" lang="en-GB" sz="2400" spc="-1" strike="noStrike">
                <a:solidFill>
                  <a:srgbClr val="564b3c"/>
                </a:solidFill>
                <a:latin typeface="Century Gothic"/>
              </a:rPr>
              <a:t>give as many pupils as possible the knowledge and skills to flourish in the later phases of education</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set high expectations so that all children can reach their potential and are well prepared for secondary school</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 ‘raise current threshold expectations’.</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at ‘</a:t>
            </a:r>
            <a:r>
              <a:rPr b="1" lang="en-GB" sz="2400" spc="-1" strike="noStrike">
                <a:solidFill>
                  <a:srgbClr val="564b3c"/>
                </a:solidFill>
                <a:latin typeface="Century Gothic"/>
              </a:rPr>
              <a:t>No child should be allowed to fall behind</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 ‘celebrate the progress that pupils make in schools with more challenging intakes’</a:t>
            </a:r>
            <a:r>
              <a:rPr b="0" lang="en-GB"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LANGUAGES</a:t>
            </a:r>
            <a:endParaRPr b="0" lang="en-US" sz="3500" spc="-1" strike="noStrike">
              <a:solidFill>
                <a:srgbClr val="6b7d72"/>
              </a:solidFill>
              <a:latin typeface="Book Antiqua"/>
            </a:endParaRPr>
          </a:p>
        </p:txBody>
      </p:sp>
      <p:sp>
        <p:nvSpPr>
          <p:cNvPr id="2279" name=""/>
          <p:cNvSpPr txBox="1"/>
          <p:nvPr/>
        </p:nvSpPr>
        <p:spPr>
          <a:xfrm>
            <a:off x="457200" y="1752120"/>
            <a:ext cx="8229600" cy="4373640"/>
          </a:xfrm>
          <a:prstGeom prst="rect">
            <a:avLst/>
          </a:prstGeom>
          <a:noFill/>
          <a:ln w="0">
            <a:noFill/>
          </a:ln>
        </p:spPr>
        <p:txBody>
          <a:bodyPr anchor="t">
            <a:normAutofit fontScale="94000"/>
          </a:bodyPr>
          <a:p>
            <a:pPr marL="322200" indent="-21456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Making and Marking Progress – </a:t>
            </a:r>
            <a:r>
              <a:rPr b="0" lang="en-GB" sz="2000" spc="-1" strike="noStrike">
                <a:solidFill>
                  <a:srgbClr val="564b3c"/>
                </a:solidFill>
                <a:latin typeface="Century Gothic"/>
              </a:rPr>
              <a:t>http://www.linksintolanguages.ac.uk/resources/2557</a:t>
            </a:r>
            <a:endParaRPr b="0" lang="en-US" sz="2000" spc="-1" strike="noStrike">
              <a:solidFill>
                <a:srgbClr val="564b3c"/>
              </a:solidFill>
              <a:latin typeface="Century Gothic"/>
            </a:endParaRPr>
          </a:p>
          <a:p>
            <a:pPr marL="322200" indent="-2145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 </a:t>
            </a:r>
            <a:r>
              <a:rPr b="0" lang="en-GB" sz="2400" spc="-1" strike="noStrike">
                <a:solidFill>
                  <a:srgbClr val="564b3c"/>
                </a:solidFill>
                <a:latin typeface="Century Gothic"/>
              </a:rPr>
              <a:t>An AFL tool, based on the Languages Ladder, using ordinary classroom activities as assessment opportunities for observing pupils’ progress against the KS2 Framework objectives.</a:t>
            </a:r>
            <a:endParaRPr b="0" lang="en-US" sz="2400" spc="-1" strike="noStrike">
              <a:solidFill>
                <a:srgbClr val="564b3c"/>
              </a:solidFill>
              <a:latin typeface="Century Gothic"/>
            </a:endParaRPr>
          </a:p>
          <a:p>
            <a:pPr marL="322200" indent="-2145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sset Languages – www.assetlanguages.org.uk/ This is a commercial tool which can still be purchased for a relatively small amount and has pre-planned graded tests in it, in all 4 skills. The tests are adaptable  – they may include vocabulary that you have not covered with your class so you are at liberty to change them to sui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1"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entury Gothic"/>
              </a:rPr>
              <a:t>http://primarynationalcurriculum2014.wikispaces.com/home</a:t>
            </a:r>
            <a:r>
              <a:rPr b="0" lang="en-US" sz="2400" spc="-1" strike="noStrike">
                <a:solidFill>
                  <a:srgbClr val="564b3c"/>
                </a:solidFill>
                <a:latin typeface="Century Gothic"/>
              </a:rPr>
              <a:t>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PPORT FOR PRIMARY SCHOOLS</a:t>
            </a:r>
            <a:endParaRPr b="0" lang="en-US" sz="3500" spc="-1" strike="noStrike">
              <a:solidFill>
                <a:srgbClr val="6b7d72"/>
              </a:solidFill>
              <a:latin typeface="Book Antiqua"/>
            </a:endParaRPr>
          </a:p>
        </p:txBody>
      </p:sp>
      <p:sp>
        <p:nvSpPr>
          <p:cNvPr id="2283" name=""/>
          <p:cNvSpPr txBox="1"/>
          <p:nvPr/>
        </p:nvSpPr>
        <p:spPr>
          <a:xfrm>
            <a:off x="457200" y="1752120"/>
            <a:ext cx="8229600" cy="48452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t>
            </a:r>
            <a:r>
              <a:rPr b="0" lang="en-GB" sz="2400" spc="-1" strike="noStrike">
                <a:solidFill>
                  <a:srgbClr val="564b3c"/>
                </a:solidFill>
                <a:latin typeface="Century Gothic"/>
              </a:rPr>
              <a:t>Assessment Ladders’ in English and mathematics, drawing on the content of the National Curriculum and the performance descriptor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Briefing for headteachers and senior leaders this Friday</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vent for assessment leaders in late June (date to be confirmed)</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nglish and mathematics subject leader events (2</a:t>
            </a:r>
            <a:r>
              <a:rPr b="0" lang="en-GB" sz="2400" spc="-1" strike="noStrike" baseline="30000">
                <a:solidFill>
                  <a:srgbClr val="564b3c"/>
                </a:solidFill>
                <a:latin typeface="Century Gothic"/>
              </a:rPr>
              <a:t>nd</a:t>
            </a:r>
            <a:r>
              <a:rPr b="0" lang="en-GB" sz="2400" spc="-1" strike="noStrike">
                <a:solidFill>
                  <a:srgbClr val="564b3c"/>
                </a:solidFill>
                <a:latin typeface="Century Gothic"/>
              </a:rPr>
              <a:t> July and 17</a:t>
            </a:r>
            <a:r>
              <a:rPr b="0" lang="en-GB" sz="2400" spc="-1" strike="noStrike" baseline="30000">
                <a:solidFill>
                  <a:srgbClr val="564b3c"/>
                </a:solidFill>
                <a:latin typeface="Century Gothic"/>
              </a:rPr>
              <a:t>th</a:t>
            </a:r>
            <a:r>
              <a:rPr b="0" lang="en-GB" sz="2400" spc="-1" strike="noStrike">
                <a:solidFill>
                  <a:srgbClr val="564b3c"/>
                </a:solidFill>
                <a:latin typeface="Century Gothic"/>
              </a:rPr>
              <a:t> June).</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urriculum cluster group meeting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Ongoing events for class teachers from the autumn term – what do age related expectations look like in each year group with the new curriculum?</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b7d72"/>
                </a:solidFill>
                <a:latin typeface="Book Antiqua"/>
              </a:rPr>
              <a:t>ASSESSMENT – PRE SCHOOL AND RECEPTION</a:t>
            </a:r>
            <a:endParaRPr b="0" lang="en-US" sz="3600" spc="-1" strike="noStrike">
              <a:solidFill>
                <a:srgbClr val="6b7d72"/>
              </a:solidFill>
              <a:latin typeface="Book Antiqua"/>
            </a:endParaRPr>
          </a:p>
        </p:txBody>
      </p:sp>
      <p:sp>
        <p:nvSpPr>
          <p:cNvPr id="2200" name=""/>
          <p:cNvSpPr txBox="1"/>
          <p:nvPr/>
        </p:nvSpPr>
        <p:spPr>
          <a:xfrm>
            <a:off x="468360" y="1196640"/>
            <a:ext cx="8074080" cy="4916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existing statutory two-year-old progress check undertaken in early years settings will continu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new reception baseline assessment will be piloted from September 2015 becoming compulsory from 2016.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reception baseline will be the only measure used to assess progress for children who start reception in September 2016 and beyond.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From September 2016 there will be no requirement to complete an EYFS profile for children. The EYFS framework will remain statutory. </a:t>
            </a:r>
            <a:endParaRPr b="0" lang="en-US" sz="2400" spc="-1" strike="noStrike">
              <a:solidFill>
                <a:srgbClr val="564b3c"/>
              </a:solidFill>
              <a:latin typeface="Century Gothic"/>
            </a:endParaRPr>
          </a:p>
        </p:txBody>
      </p:sp>
      <p:sp>
        <p:nvSpPr>
          <p:cNvPr id="22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3" name=""/>
          <p:cNvSpPr txBox="1"/>
          <p:nvPr/>
        </p:nvSpPr>
        <p:spPr>
          <a:xfrm>
            <a:off x="456840" y="1699920"/>
            <a:ext cx="8002440" cy="470052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There will be end of KS1 externally-set test in grammar, punctuation and spelling.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Scaled scores will be provided for externally set tests, with 100 being the expected outcome.</a:t>
            </a:r>
            <a:endParaRPr b="0" lang="en-US" sz="2800" spc="-1" strike="noStrike">
              <a:solidFill>
                <a:srgbClr val="564b3c"/>
              </a:solidFill>
              <a:latin typeface="Century Gothic"/>
            </a:endParaRPr>
          </a:p>
        </p:txBody>
      </p:sp>
      <p:sp>
        <p:nvSpPr>
          <p:cNvPr id="22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6"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No change proposed to the Year 1 phonics check.</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Judgements will continue to be made using teacher assessment.</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re will be end of KS1 externally-set (but internally-marked) tests in mathematics and reading.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8" name=""/>
          <p:cNvSpPr txBox="1"/>
          <p:nvPr/>
        </p:nvSpPr>
        <p:spPr>
          <a:xfrm>
            <a:off x="456840" y="1196640"/>
            <a:ext cx="8002440" cy="5203800"/>
          </a:xfrm>
          <a:prstGeom prst="rect">
            <a:avLst/>
          </a:prstGeom>
          <a:noFill/>
          <a:ln w="0">
            <a:noFill/>
          </a:ln>
        </p:spPr>
        <p:txBody>
          <a:bodyPr anchor="t">
            <a:normAutofit/>
          </a:bodyPr>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In autumn 2014, new performance descriptors will be introduced to inform statutory teacher assessments at the end of key stage 1. For mathematics, reading, writing and speaking and listening, teachers will assess pupils as meeting one of several performance descriptors.</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For science, there will be a single performance descriptor of the new expected standard. </a:t>
            </a:r>
            <a:endParaRPr b="0" lang="en-US" sz="2800" spc="-1" strike="noStrike">
              <a:solidFill>
                <a:srgbClr val="564b3c"/>
              </a:solidFill>
              <a:latin typeface="Century Gothic"/>
            </a:endParaRPr>
          </a:p>
        </p:txBody>
      </p:sp>
      <p:sp>
        <p:nvSpPr>
          <p:cNvPr id="22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title"/>
          </p:nvPr>
        </p:nvSpPr>
        <p:spPr>
          <a:xfrm>
            <a:off x="395280" y="404280"/>
            <a:ext cx="8229600" cy="9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2</a:t>
            </a:r>
            <a:endParaRPr b="0" lang="en-US" sz="3500" spc="-1" strike="noStrike">
              <a:solidFill>
                <a:srgbClr val="6b7d72"/>
              </a:solidFill>
              <a:latin typeface="Book Antiqua"/>
            </a:endParaRPr>
          </a:p>
        </p:txBody>
      </p:sp>
      <p:sp>
        <p:nvSpPr>
          <p:cNvPr id="2211" name=""/>
          <p:cNvSpPr txBox="1"/>
          <p:nvPr/>
        </p:nvSpPr>
        <p:spPr>
          <a:xfrm>
            <a:off x="456840" y="1699920"/>
            <a:ext cx="8218440" cy="4824360"/>
          </a:xfrm>
          <a:prstGeom prst="rect">
            <a:avLst/>
          </a:prstGeom>
          <a:noFill/>
          <a:ln w="0">
            <a:noFill/>
          </a:ln>
        </p:spPr>
        <p:txBody>
          <a:bodyPr anchor="t">
            <a:normAutofit/>
          </a:bodyPr>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At the end of key stage 2 pupils will continue to sit externally-set and marked tests in mathematics, reading, and grammar, punctuation and spelling. </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Teacher assessment in mathematics, reading, writing and science will give a broader picture of children’s attainment.</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New performance descriptors will be introduced to inform the statutory teacher assessments at the end of key stage 2. </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For writing, teachers will assess pupils as meeting one of several performance descriptors.</a:t>
            </a: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p:txBody>
      </p:sp>
      <p:sp>
        <p:nvSpPr>
          <p:cNvPr id="22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0:18:50Z</dcterms:created>
  <dc:creator>Fitzpatrick, Elizabeth</dc:creator>
  <dc:description/>
  <dc:language>en-US</dc:language>
  <cp:lastModifiedBy>Salmon, Davina</cp:lastModifiedBy>
  <cp:lastPrinted>2014-05-02T07:04:17Z</cp:lastPrinted>
  <dcterms:modified xsi:type="dcterms:W3CDTF">2014-07-16T12:41:22Z</dcterms:modified>
  <cp:revision>60</cp:revision>
  <dc:subject/>
  <dc:title>The National Curriculum</dc:title>
</cp:coreProperties>
</file>